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1800" cy="124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1440" cy="18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Guidance of action both now and in fu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esign: purposes, execution plan, evaluation measur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xecution: evaluation of implementation, evaluation of design, evaluation of me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Follow-up: overall evaluation (including all previous + outcome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19936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052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774600"/>
            <a:ext cx="821052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19936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064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4160" y="1484280"/>
            <a:ext cx="40064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774600"/>
            <a:ext cx="40064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4160" y="3774600"/>
            <a:ext cx="40064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19936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348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2800" y="1484280"/>
            <a:ext cx="264348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8760" y="1484280"/>
            <a:ext cx="264348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774600"/>
            <a:ext cx="264348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2800" y="3774600"/>
            <a:ext cx="264348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8760" y="3774600"/>
            <a:ext cx="264348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19936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05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19936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052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19936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064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4160" y="1484280"/>
            <a:ext cx="40064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19936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19936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19936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064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4160" y="1484280"/>
            <a:ext cx="40064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6840" y="3774600"/>
            <a:ext cx="40064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19936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05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19936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064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4160" y="1484280"/>
            <a:ext cx="40064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4160" y="3774600"/>
            <a:ext cx="40064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19936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064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4160" y="1484280"/>
            <a:ext cx="40064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3774600"/>
            <a:ext cx="821052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19936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052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6840" y="3774600"/>
            <a:ext cx="821052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19936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064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4160" y="1484280"/>
            <a:ext cx="40064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6840" y="3774600"/>
            <a:ext cx="40064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4160" y="3774600"/>
            <a:ext cx="40064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19936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348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2800" y="1484280"/>
            <a:ext cx="264348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08760" y="1484280"/>
            <a:ext cx="264348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6840" y="3774600"/>
            <a:ext cx="264348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2800" y="3774600"/>
            <a:ext cx="264348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08760" y="3774600"/>
            <a:ext cx="264348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19936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052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19936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064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4160" y="1484280"/>
            <a:ext cx="40064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19936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19936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19936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064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4160" y="1484280"/>
            <a:ext cx="40064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774600"/>
            <a:ext cx="40064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19936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064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4160" y="1484280"/>
            <a:ext cx="40064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4160" y="3774600"/>
            <a:ext cx="40064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19936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064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4160" y="1484280"/>
            <a:ext cx="40064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774600"/>
            <a:ext cx="821052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539640" y="6308640"/>
            <a:ext cx="3607920" cy="100080"/>
            <a:chOff x="539640" y="6308640"/>
            <a:chExt cx="3607920" cy="100080"/>
          </a:xfrm>
        </p:grpSpPr>
        <p:sp>
          <p:nvSpPr>
            <p:cNvPr id="1" name="Freeform 3"/>
            <p:cNvSpPr/>
            <p:nvPr/>
          </p:nvSpPr>
          <p:spPr>
            <a:xfrm>
              <a:off x="539640" y="6308640"/>
              <a:ext cx="3607920" cy="100080"/>
            </a:xfrm>
            <a:custGeom>
              <a:avLst/>
              <a:gdLst/>
              <a:ahLst/>
              <a:rect l="l" t="t" r="r" b="b"/>
              <a:pathLst>
                <a:path w="9651" h="683">
                  <a:moveTo>
                    <a:pt x="511" y="671"/>
                  </a:moveTo>
                  <a:lnTo>
                    <a:pt x="511" y="14"/>
                  </a:lnTo>
                  <a:lnTo>
                    <a:pt x="415" y="14"/>
                  </a:lnTo>
                  <a:lnTo>
                    <a:pt x="415" y="540"/>
                  </a:lnTo>
                  <a:lnTo>
                    <a:pt x="411" y="540"/>
                  </a:lnTo>
                  <a:lnTo>
                    <a:pt x="125" y="14"/>
                  </a:lnTo>
                  <a:lnTo>
                    <a:pt x="0" y="14"/>
                  </a:lnTo>
                  <a:lnTo>
                    <a:pt x="0" y="671"/>
                  </a:lnTo>
                  <a:lnTo>
                    <a:pt x="96" y="671"/>
                  </a:lnTo>
                  <a:lnTo>
                    <a:pt x="96" y="144"/>
                  </a:lnTo>
                  <a:lnTo>
                    <a:pt x="99" y="144"/>
                  </a:lnTo>
                  <a:lnTo>
                    <a:pt x="386" y="671"/>
                  </a:lnTo>
                  <a:lnTo>
                    <a:pt x="511" y="671"/>
                  </a:lnTo>
                  <a:close/>
                  <a:moveTo>
                    <a:pt x="1280" y="671"/>
                  </a:moveTo>
                  <a:lnTo>
                    <a:pt x="993" y="14"/>
                  </a:lnTo>
                  <a:lnTo>
                    <a:pt x="901" y="14"/>
                  </a:lnTo>
                  <a:lnTo>
                    <a:pt x="615" y="671"/>
                  </a:lnTo>
                  <a:lnTo>
                    <a:pt x="717" y="671"/>
                  </a:lnTo>
                  <a:lnTo>
                    <a:pt x="786" y="503"/>
                  </a:lnTo>
                  <a:lnTo>
                    <a:pt x="1108" y="503"/>
                  </a:lnTo>
                  <a:lnTo>
                    <a:pt x="1176" y="671"/>
                  </a:lnTo>
                  <a:lnTo>
                    <a:pt x="1280" y="671"/>
                  </a:lnTo>
                  <a:close/>
                  <a:moveTo>
                    <a:pt x="1078" y="427"/>
                  </a:moveTo>
                  <a:lnTo>
                    <a:pt x="817" y="427"/>
                  </a:lnTo>
                  <a:lnTo>
                    <a:pt x="947" y="104"/>
                  </a:lnTo>
                  <a:lnTo>
                    <a:pt x="1078" y="427"/>
                  </a:lnTo>
                  <a:close/>
                  <a:moveTo>
                    <a:pt x="1752" y="96"/>
                  </a:moveTo>
                  <a:lnTo>
                    <a:pt x="1752" y="14"/>
                  </a:lnTo>
                  <a:lnTo>
                    <a:pt x="1255" y="14"/>
                  </a:lnTo>
                  <a:lnTo>
                    <a:pt x="1255" y="96"/>
                  </a:lnTo>
                  <a:lnTo>
                    <a:pt x="1455" y="96"/>
                  </a:lnTo>
                  <a:lnTo>
                    <a:pt x="1455" y="671"/>
                  </a:lnTo>
                  <a:lnTo>
                    <a:pt x="1551" y="671"/>
                  </a:lnTo>
                  <a:lnTo>
                    <a:pt x="1551" y="96"/>
                  </a:lnTo>
                  <a:lnTo>
                    <a:pt x="1752" y="96"/>
                  </a:lnTo>
                  <a:close/>
                  <a:moveTo>
                    <a:pt x="1978" y="671"/>
                  </a:moveTo>
                  <a:lnTo>
                    <a:pt x="1978" y="14"/>
                  </a:lnTo>
                  <a:lnTo>
                    <a:pt x="1882" y="14"/>
                  </a:lnTo>
                  <a:lnTo>
                    <a:pt x="1882" y="671"/>
                  </a:lnTo>
                  <a:lnTo>
                    <a:pt x="1978" y="671"/>
                  </a:lnTo>
                  <a:close/>
                  <a:moveTo>
                    <a:pt x="2754" y="342"/>
                  </a:moveTo>
                  <a:lnTo>
                    <a:pt x="2752" y="306"/>
                  </a:lnTo>
                  <a:lnTo>
                    <a:pt x="2749" y="272"/>
                  </a:lnTo>
                  <a:lnTo>
                    <a:pt x="2743" y="240"/>
                  </a:lnTo>
                  <a:lnTo>
                    <a:pt x="2734" y="209"/>
                  </a:lnTo>
                  <a:lnTo>
                    <a:pt x="2722" y="179"/>
                  </a:lnTo>
                  <a:lnTo>
                    <a:pt x="2708" y="151"/>
                  </a:lnTo>
                  <a:lnTo>
                    <a:pt x="2693" y="125"/>
                  </a:lnTo>
                  <a:lnTo>
                    <a:pt x="2673" y="100"/>
                  </a:lnTo>
                  <a:lnTo>
                    <a:pt x="2651" y="78"/>
                  </a:lnTo>
                  <a:lnTo>
                    <a:pt x="2626" y="57"/>
                  </a:lnTo>
                  <a:lnTo>
                    <a:pt x="2601" y="40"/>
                  </a:lnTo>
                  <a:lnTo>
                    <a:pt x="2572" y="27"/>
                  </a:lnTo>
                  <a:lnTo>
                    <a:pt x="2541" y="15"/>
                  </a:lnTo>
                  <a:lnTo>
                    <a:pt x="2509" y="8"/>
                  </a:lnTo>
                  <a:lnTo>
                    <a:pt x="2475" y="3"/>
                  </a:lnTo>
                  <a:lnTo>
                    <a:pt x="2439" y="2"/>
                  </a:lnTo>
                  <a:lnTo>
                    <a:pt x="2402" y="3"/>
                  </a:lnTo>
                  <a:lnTo>
                    <a:pt x="2368" y="8"/>
                  </a:lnTo>
                  <a:lnTo>
                    <a:pt x="2335" y="15"/>
                  </a:lnTo>
                  <a:lnTo>
                    <a:pt x="2304" y="27"/>
                  </a:lnTo>
                  <a:lnTo>
                    <a:pt x="2277" y="40"/>
                  </a:lnTo>
                  <a:lnTo>
                    <a:pt x="2250" y="57"/>
                  </a:lnTo>
                  <a:lnTo>
                    <a:pt x="2226" y="78"/>
                  </a:lnTo>
                  <a:lnTo>
                    <a:pt x="2203" y="100"/>
                  </a:lnTo>
                  <a:lnTo>
                    <a:pt x="2194" y="113"/>
                  </a:lnTo>
                  <a:lnTo>
                    <a:pt x="2185" y="125"/>
                  </a:lnTo>
                  <a:lnTo>
                    <a:pt x="2168" y="150"/>
                  </a:lnTo>
                  <a:lnTo>
                    <a:pt x="2155" y="178"/>
                  </a:lnTo>
                  <a:lnTo>
                    <a:pt x="2144" y="208"/>
                  </a:lnTo>
                  <a:lnTo>
                    <a:pt x="2135" y="240"/>
                  </a:lnTo>
                  <a:lnTo>
                    <a:pt x="2129" y="272"/>
                  </a:lnTo>
                  <a:lnTo>
                    <a:pt x="2125" y="306"/>
                  </a:lnTo>
                  <a:lnTo>
                    <a:pt x="2124" y="342"/>
                  </a:lnTo>
                  <a:lnTo>
                    <a:pt x="2125" y="379"/>
                  </a:lnTo>
                  <a:lnTo>
                    <a:pt x="2129" y="413"/>
                  </a:lnTo>
                  <a:lnTo>
                    <a:pt x="2135" y="445"/>
                  </a:lnTo>
                  <a:lnTo>
                    <a:pt x="2144" y="477"/>
                  </a:lnTo>
                  <a:lnTo>
                    <a:pt x="2155" y="506"/>
                  </a:lnTo>
                  <a:lnTo>
                    <a:pt x="2169" y="533"/>
                  </a:lnTo>
                  <a:lnTo>
                    <a:pt x="2185" y="559"/>
                  </a:lnTo>
                  <a:lnTo>
                    <a:pt x="2203" y="583"/>
                  </a:lnTo>
                  <a:lnTo>
                    <a:pt x="2226" y="606"/>
                  </a:lnTo>
                  <a:lnTo>
                    <a:pt x="2238" y="617"/>
                  </a:lnTo>
                  <a:lnTo>
                    <a:pt x="2250" y="627"/>
                  </a:lnTo>
                  <a:lnTo>
                    <a:pt x="2277" y="644"/>
                  </a:lnTo>
                  <a:lnTo>
                    <a:pt x="2304" y="658"/>
                  </a:lnTo>
                  <a:lnTo>
                    <a:pt x="2335" y="669"/>
                  </a:lnTo>
                  <a:lnTo>
                    <a:pt x="2368" y="677"/>
                  </a:lnTo>
                  <a:lnTo>
                    <a:pt x="2402" y="681"/>
                  </a:lnTo>
                  <a:lnTo>
                    <a:pt x="2439" y="683"/>
                  </a:lnTo>
                  <a:lnTo>
                    <a:pt x="2475" y="681"/>
                  </a:lnTo>
                  <a:lnTo>
                    <a:pt x="2509" y="677"/>
                  </a:lnTo>
                  <a:lnTo>
                    <a:pt x="2541" y="669"/>
                  </a:lnTo>
                  <a:lnTo>
                    <a:pt x="2572" y="658"/>
                  </a:lnTo>
                  <a:lnTo>
                    <a:pt x="2601" y="644"/>
                  </a:lnTo>
                  <a:lnTo>
                    <a:pt x="2626" y="627"/>
                  </a:lnTo>
                  <a:lnTo>
                    <a:pt x="2651" y="606"/>
                  </a:lnTo>
                  <a:lnTo>
                    <a:pt x="2673" y="583"/>
                  </a:lnTo>
                  <a:lnTo>
                    <a:pt x="2684" y="571"/>
                  </a:lnTo>
                  <a:lnTo>
                    <a:pt x="2693" y="559"/>
                  </a:lnTo>
                  <a:lnTo>
                    <a:pt x="2708" y="533"/>
                  </a:lnTo>
                  <a:lnTo>
                    <a:pt x="2722" y="506"/>
                  </a:lnTo>
                  <a:lnTo>
                    <a:pt x="2734" y="476"/>
                  </a:lnTo>
                  <a:lnTo>
                    <a:pt x="2743" y="445"/>
                  </a:lnTo>
                  <a:lnTo>
                    <a:pt x="2749" y="413"/>
                  </a:lnTo>
                  <a:lnTo>
                    <a:pt x="2752" y="379"/>
                  </a:lnTo>
                  <a:lnTo>
                    <a:pt x="2754" y="342"/>
                  </a:lnTo>
                  <a:close/>
                  <a:moveTo>
                    <a:pt x="2655" y="342"/>
                  </a:moveTo>
                  <a:lnTo>
                    <a:pt x="2654" y="370"/>
                  </a:lnTo>
                  <a:lnTo>
                    <a:pt x="2651" y="395"/>
                  </a:lnTo>
                  <a:lnTo>
                    <a:pt x="2647" y="421"/>
                  </a:lnTo>
                  <a:lnTo>
                    <a:pt x="2641" y="444"/>
                  </a:lnTo>
                  <a:lnTo>
                    <a:pt x="2632" y="466"/>
                  </a:lnTo>
                  <a:lnTo>
                    <a:pt x="2623" y="487"/>
                  </a:lnTo>
                  <a:lnTo>
                    <a:pt x="2612" y="507"/>
                  </a:lnTo>
                  <a:lnTo>
                    <a:pt x="2599" y="525"/>
                  </a:lnTo>
                  <a:lnTo>
                    <a:pt x="2583" y="543"/>
                  </a:lnTo>
                  <a:lnTo>
                    <a:pt x="2566" y="558"/>
                  </a:lnTo>
                  <a:lnTo>
                    <a:pt x="2548" y="570"/>
                  </a:lnTo>
                  <a:lnTo>
                    <a:pt x="2529" y="581"/>
                  </a:lnTo>
                  <a:lnTo>
                    <a:pt x="2508" y="589"/>
                  </a:lnTo>
                  <a:lnTo>
                    <a:pt x="2486" y="594"/>
                  </a:lnTo>
                  <a:lnTo>
                    <a:pt x="2463" y="598"/>
                  </a:lnTo>
                  <a:lnTo>
                    <a:pt x="2439" y="599"/>
                  </a:lnTo>
                  <a:lnTo>
                    <a:pt x="2414" y="598"/>
                  </a:lnTo>
                  <a:lnTo>
                    <a:pt x="2391" y="594"/>
                  </a:lnTo>
                  <a:lnTo>
                    <a:pt x="2379" y="592"/>
                  </a:lnTo>
                  <a:lnTo>
                    <a:pt x="2369" y="589"/>
                  </a:lnTo>
                  <a:lnTo>
                    <a:pt x="2348" y="581"/>
                  </a:lnTo>
                  <a:lnTo>
                    <a:pt x="2329" y="570"/>
                  </a:lnTo>
                  <a:lnTo>
                    <a:pt x="2311" y="558"/>
                  </a:lnTo>
                  <a:lnTo>
                    <a:pt x="2302" y="551"/>
                  </a:lnTo>
                  <a:lnTo>
                    <a:pt x="2294" y="543"/>
                  </a:lnTo>
                  <a:lnTo>
                    <a:pt x="2279" y="525"/>
                  </a:lnTo>
                  <a:lnTo>
                    <a:pt x="2265" y="507"/>
                  </a:lnTo>
                  <a:lnTo>
                    <a:pt x="2253" y="487"/>
                  </a:lnTo>
                  <a:lnTo>
                    <a:pt x="2244" y="466"/>
                  </a:lnTo>
                  <a:lnTo>
                    <a:pt x="2236" y="444"/>
                  </a:lnTo>
                  <a:lnTo>
                    <a:pt x="2230" y="421"/>
                  </a:lnTo>
                  <a:lnTo>
                    <a:pt x="2225" y="395"/>
                  </a:lnTo>
                  <a:lnTo>
                    <a:pt x="2222" y="370"/>
                  </a:lnTo>
                  <a:lnTo>
                    <a:pt x="2221" y="342"/>
                  </a:lnTo>
                  <a:lnTo>
                    <a:pt x="2222" y="315"/>
                  </a:lnTo>
                  <a:lnTo>
                    <a:pt x="2225" y="290"/>
                  </a:lnTo>
                  <a:lnTo>
                    <a:pt x="2230" y="265"/>
                  </a:lnTo>
                  <a:lnTo>
                    <a:pt x="2236" y="242"/>
                  </a:lnTo>
                  <a:lnTo>
                    <a:pt x="2244" y="219"/>
                  </a:lnTo>
                  <a:lnTo>
                    <a:pt x="2253" y="199"/>
                  </a:lnTo>
                  <a:lnTo>
                    <a:pt x="2265" y="178"/>
                  </a:lnTo>
                  <a:lnTo>
                    <a:pt x="2279" y="160"/>
                  </a:lnTo>
                  <a:lnTo>
                    <a:pt x="2294" y="142"/>
                  </a:lnTo>
                  <a:lnTo>
                    <a:pt x="2312" y="127"/>
                  </a:lnTo>
                  <a:lnTo>
                    <a:pt x="2329" y="115"/>
                  </a:lnTo>
                  <a:lnTo>
                    <a:pt x="2348" y="104"/>
                  </a:lnTo>
                  <a:lnTo>
                    <a:pt x="2369" y="96"/>
                  </a:lnTo>
                  <a:lnTo>
                    <a:pt x="2391" y="90"/>
                  </a:lnTo>
                  <a:lnTo>
                    <a:pt x="2414" y="87"/>
                  </a:lnTo>
                  <a:lnTo>
                    <a:pt x="2439" y="86"/>
                  </a:lnTo>
                  <a:lnTo>
                    <a:pt x="2462" y="87"/>
                  </a:lnTo>
                  <a:lnTo>
                    <a:pt x="2486" y="90"/>
                  </a:lnTo>
                  <a:lnTo>
                    <a:pt x="2507" y="96"/>
                  </a:lnTo>
                  <a:lnTo>
                    <a:pt x="2528" y="104"/>
                  </a:lnTo>
                  <a:lnTo>
                    <a:pt x="2547" y="115"/>
                  </a:lnTo>
                  <a:lnTo>
                    <a:pt x="2566" y="127"/>
                  </a:lnTo>
                  <a:lnTo>
                    <a:pt x="2582" y="142"/>
                  </a:lnTo>
                  <a:lnTo>
                    <a:pt x="2599" y="160"/>
                  </a:lnTo>
                  <a:lnTo>
                    <a:pt x="2612" y="178"/>
                  </a:lnTo>
                  <a:lnTo>
                    <a:pt x="2623" y="199"/>
                  </a:lnTo>
                  <a:lnTo>
                    <a:pt x="2632" y="219"/>
                  </a:lnTo>
                  <a:lnTo>
                    <a:pt x="2641" y="242"/>
                  </a:lnTo>
                  <a:lnTo>
                    <a:pt x="2647" y="265"/>
                  </a:lnTo>
                  <a:lnTo>
                    <a:pt x="2651" y="290"/>
                  </a:lnTo>
                  <a:lnTo>
                    <a:pt x="2654" y="315"/>
                  </a:lnTo>
                  <a:lnTo>
                    <a:pt x="2655" y="342"/>
                  </a:lnTo>
                  <a:close/>
                  <a:moveTo>
                    <a:pt x="3411" y="671"/>
                  </a:moveTo>
                  <a:lnTo>
                    <a:pt x="3411" y="14"/>
                  </a:lnTo>
                  <a:lnTo>
                    <a:pt x="3315" y="14"/>
                  </a:lnTo>
                  <a:lnTo>
                    <a:pt x="3315" y="540"/>
                  </a:lnTo>
                  <a:lnTo>
                    <a:pt x="3311" y="540"/>
                  </a:lnTo>
                  <a:lnTo>
                    <a:pt x="3025" y="14"/>
                  </a:lnTo>
                  <a:lnTo>
                    <a:pt x="2901" y="14"/>
                  </a:lnTo>
                  <a:lnTo>
                    <a:pt x="2901" y="671"/>
                  </a:lnTo>
                  <a:lnTo>
                    <a:pt x="2997" y="671"/>
                  </a:lnTo>
                  <a:lnTo>
                    <a:pt x="2997" y="144"/>
                  </a:lnTo>
                  <a:lnTo>
                    <a:pt x="2999" y="144"/>
                  </a:lnTo>
                  <a:lnTo>
                    <a:pt x="3287" y="671"/>
                  </a:lnTo>
                  <a:lnTo>
                    <a:pt x="3411" y="671"/>
                  </a:lnTo>
                  <a:close/>
                  <a:moveTo>
                    <a:pt x="4180" y="671"/>
                  </a:moveTo>
                  <a:lnTo>
                    <a:pt x="3893" y="14"/>
                  </a:lnTo>
                  <a:lnTo>
                    <a:pt x="3801" y="14"/>
                  </a:lnTo>
                  <a:lnTo>
                    <a:pt x="3516" y="671"/>
                  </a:lnTo>
                  <a:lnTo>
                    <a:pt x="3618" y="671"/>
                  </a:lnTo>
                  <a:lnTo>
                    <a:pt x="3686" y="503"/>
                  </a:lnTo>
                  <a:lnTo>
                    <a:pt x="4008" y="503"/>
                  </a:lnTo>
                  <a:lnTo>
                    <a:pt x="4077" y="671"/>
                  </a:lnTo>
                  <a:lnTo>
                    <a:pt x="4180" y="671"/>
                  </a:lnTo>
                  <a:close/>
                  <a:moveTo>
                    <a:pt x="3978" y="427"/>
                  </a:moveTo>
                  <a:lnTo>
                    <a:pt x="3717" y="427"/>
                  </a:lnTo>
                  <a:lnTo>
                    <a:pt x="3848" y="104"/>
                  </a:lnTo>
                  <a:lnTo>
                    <a:pt x="3978" y="427"/>
                  </a:lnTo>
                  <a:close/>
                  <a:moveTo>
                    <a:pt x="4650" y="671"/>
                  </a:moveTo>
                  <a:lnTo>
                    <a:pt x="4650" y="587"/>
                  </a:lnTo>
                  <a:lnTo>
                    <a:pt x="4380" y="587"/>
                  </a:lnTo>
                  <a:lnTo>
                    <a:pt x="4380" y="14"/>
                  </a:lnTo>
                  <a:lnTo>
                    <a:pt x="4285" y="14"/>
                  </a:lnTo>
                  <a:lnTo>
                    <a:pt x="4285" y="671"/>
                  </a:lnTo>
                  <a:lnTo>
                    <a:pt x="4650" y="671"/>
                  </a:lnTo>
                  <a:close/>
                  <a:moveTo>
                    <a:pt x="5160" y="671"/>
                  </a:moveTo>
                  <a:lnTo>
                    <a:pt x="5160" y="14"/>
                  </a:lnTo>
                  <a:lnTo>
                    <a:pt x="5065" y="14"/>
                  </a:lnTo>
                  <a:lnTo>
                    <a:pt x="5065" y="671"/>
                  </a:lnTo>
                  <a:lnTo>
                    <a:pt x="5160" y="671"/>
                  </a:lnTo>
                  <a:close/>
                  <a:moveTo>
                    <a:pt x="5875" y="671"/>
                  </a:moveTo>
                  <a:lnTo>
                    <a:pt x="5875" y="14"/>
                  </a:lnTo>
                  <a:lnTo>
                    <a:pt x="5779" y="14"/>
                  </a:lnTo>
                  <a:lnTo>
                    <a:pt x="5779" y="540"/>
                  </a:lnTo>
                  <a:lnTo>
                    <a:pt x="5775" y="540"/>
                  </a:lnTo>
                  <a:lnTo>
                    <a:pt x="5489" y="14"/>
                  </a:lnTo>
                  <a:lnTo>
                    <a:pt x="5364" y="14"/>
                  </a:lnTo>
                  <a:lnTo>
                    <a:pt x="5364" y="671"/>
                  </a:lnTo>
                  <a:lnTo>
                    <a:pt x="5460" y="671"/>
                  </a:lnTo>
                  <a:lnTo>
                    <a:pt x="5460" y="144"/>
                  </a:lnTo>
                  <a:lnTo>
                    <a:pt x="5463" y="144"/>
                  </a:lnTo>
                  <a:lnTo>
                    <a:pt x="5750" y="671"/>
                  </a:lnTo>
                  <a:lnTo>
                    <a:pt x="5875" y="671"/>
                  </a:lnTo>
                  <a:close/>
                  <a:moveTo>
                    <a:pt x="6423" y="494"/>
                  </a:moveTo>
                  <a:lnTo>
                    <a:pt x="6420" y="470"/>
                  </a:lnTo>
                  <a:lnTo>
                    <a:pt x="6417" y="448"/>
                  </a:lnTo>
                  <a:lnTo>
                    <a:pt x="6414" y="438"/>
                  </a:lnTo>
                  <a:lnTo>
                    <a:pt x="6411" y="428"/>
                  </a:lnTo>
                  <a:lnTo>
                    <a:pt x="6404" y="408"/>
                  </a:lnTo>
                  <a:lnTo>
                    <a:pt x="6393" y="389"/>
                  </a:lnTo>
                  <a:lnTo>
                    <a:pt x="6380" y="371"/>
                  </a:lnTo>
                  <a:lnTo>
                    <a:pt x="6365" y="353"/>
                  </a:lnTo>
                  <a:lnTo>
                    <a:pt x="6349" y="338"/>
                  </a:lnTo>
                  <a:lnTo>
                    <a:pt x="6302" y="308"/>
                  </a:lnTo>
                  <a:lnTo>
                    <a:pt x="6211" y="257"/>
                  </a:lnTo>
                  <a:lnTo>
                    <a:pt x="6194" y="247"/>
                  </a:lnTo>
                  <a:lnTo>
                    <a:pt x="6179" y="236"/>
                  </a:lnTo>
                  <a:lnTo>
                    <a:pt x="6165" y="227"/>
                  </a:lnTo>
                  <a:lnTo>
                    <a:pt x="6155" y="217"/>
                  </a:lnTo>
                  <a:lnTo>
                    <a:pt x="6147" y="207"/>
                  </a:lnTo>
                  <a:lnTo>
                    <a:pt x="6142" y="198"/>
                  </a:lnTo>
                  <a:lnTo>
                    <a:pt x="6138" y="187"/>
                  </a:lnTo>
                  <a:lnTo>
                    <a:pt x="6137" y="178"/>
                  </a:lnTo>
                  <a:lnTo>
                    <a:pt x="6139" y="160"/>
                  </a:lnTo>
                  <a:lnTo>
                    <a:pt x="6142" y="151"/>
                  </a:lnTo>
                  <a:lnTo>
                    <a:pt x="6145" y="143"/>
                  </a:lnTo>
                  <a:lnTo>
                    <a:pt x="6155" y="128"/>
                  </a:lnTo>
                  <a:lnTo>
                    <a:pt x="6168" y="113"/>
                  </a:lnTo>
                  <a:lnTo>
                    <a:pt x="6186" y="100"/>
                  </a:lnTo>
                  <a:lnTo>
                    <a:pt x="6195" y="95"/>
                  </a:lnTo>
                  <a:lnTo>
                    <a:pt x="6205" y="91"/>
                  </a:lnTo>
                  <a:lnTo>
                    <a:pt x="6227" y="85"/>
                  </a:lnTo>
                  <a:lnTo>
                    <a:pt x="6251" y="84"/>
                  </a:lnTo>
                  <a:lnTo>
                    <a:pt x="6272" y="86"/>
                  </a:lnTo>
                  <a:lnTo>
                    <a:pt x="6301" y="91"/>
                  </a:lnTo>
                  <a:lnTo>
                    <a:pt x="6382" y="115"/>
                  </a:lnTo>
                  <a:lnTo>
                    <a:pt x="6398" y="23"/>
                  </a:lnTo>
                  <a:lnTo>
                    <a:pt x="6361" y="13"/>
                  </a:lnTo>
                  <a:lnTo>
                    <a:pt x="6324" y="6"/>
                  </a:lnTo>
                  <a:lnTo>
                    <a:pt x="6287" y="1"/>
                  </a:lnTo>
                  <a:lnTo>
                    <a:pt x="6251" y="0"/>
                  </a:lnTo>
                  <a:lnTo>
                    <a:pt x="6211" y="2"/>
                  </a:lnTo>
                  <a:lnTo>
                    <a:pt x="6192" y="6"/>
                  </a:lnTo>
                  <a:lnTo>
                    <a:pt x="6174" y="10"/>
                  </a:lnTo>
                  <a:lnTo>
                    <a:pt x="6140" y="23"/>
                  </a:lnTo>
                  <a:lnTo>
                    <a:pt x="6123" y="33"/>
                  </a:lnTo>
                  <a:lnTo>
                    <a:pt x="6108" y="43"/>
                  </a:lnTo>
                  <a:lnTo>
                    <a:pt x="6092" y="56"/>
                  </a:lnTo>
                  <a:lnTo>
                    <a:pt x="6077" y="71"/>
                  </a:lnTo>
                  <a:lnTo>
                    <a:pt x="6065" y="85"/>
                  </a:lnTo>
                  <a:lnTo>
                    <a:pt x="6060" y="93"/>
                  </a:lnTo>
                  <a:lnTo>
                    <a:pt x="6056" y="101"/>
                  </a:lnTo>
                  <a:lnTo>
                    <a:pt x="6049" y="119"/>
                  </a:lnTo>
                  <a:lnTo>
                    <a:pt x="6042" y="138"/>
                  </a:lnTo>
                  <a:lnTo>
                    <a:pt x="6039" y="158"/>
                  </a:lnTo>
                  <a:lnTo>
                    <a:pt x="6038" y="178"/>
                  </a:lnTo>
                  <a:lnTo>
                    <a:pt x="6040" y="202"/>
                  </a:lnTo>
                  <a:lnTo>
                    <a:pt x="6046" y="224"/>
                  </a:lnTo>
                  <a:lnTo>
                    <a:pt x="6056" y="246"/>
                  </a:lnTo>
                  <a:lnTo>
                    <a:pt x="6070" y="267"/>
                  </a:lnTo>
                  <a:lnTo>
                    <a:pt x="6087" y="287"/>
                  </a:lnTo>
                  <a:lnTo>
                    <a:pt x="6109" y="306"/>
                  </a:lnTo>
                  <a:lnTo>
                    <a:pt x="6134" y="325"/>
                  </a:lnTo>
                  <a:lnTo>
                    <a:pt x="6163" y="341"/>
                  </a:lnTo>
                  <a:lnTo>
                    <a:pt x="6198" y="360"/>
                  </a:lnTo>
                  <a:lnTo>
                    <a:pt x="6232" y="377"/>
                  </a:lnTo>
                  <a:lnTo>
                    <a:pt x="6252" y="389"/>
                  </a:lnTo>
                  <a:lnTo>
                    <a:pt x="6270" y="400"/>
                  </a:lnTo>
                  <a:lnTo>
                    <a:pt x="6284" y="412"/>
                  </a:lnTo>
                  <a:lnTo>
                    <a:pt x="6295" y="424"/>
                  </a:lnTo>
                  <a:lnTo>
                    <a:pt x="6302" y="431"/>
                  </a:lnTo>
                  <a:lnTo>
                    <a:pt x="6308" y="439"/>
                  </a:lnTo>
                  <a:lnTo>
                    <a:pt x="6317" y="457"/>
                  </a:lnTo>
                  <a:lnTo>
                    <a:pt x="6322" y="474"/>
                  </a:lnTo>
                  <a:lnTo>
                    <a:pt x="6324" y="494"/>
                  </a:lnTo>
                  <a:lnTo>
                    <a:pt x="6321" y="515"/>
                  </a:lnTo>
                  <a:lnTo>
                    <a:pt x="6314" y="535"/>
                  </a:lnTo>
                  <a:lnTo>
                    <a:pt x="6302" y="553"/>
                  </a:lnTo>
                  <a:lnTo>
                    <a:pt x="6293" y="561"/>
                  </a:lnTo>
                  <a:lnTo>
                    <a:pt x="6284" y="568"/>
                  </a:lnTo>
                  <a:lnTo>
                    <a:pt x="6263" y="582"/>
                  </a:lnTo>
                  <a:lnTo>
                    <a:pt x="6251" y="587"/>
                  </a:lnTo>
                  <a:lnTo>
                    <a:pt x="6239" y="591"/>
                  </a:lnTo>
                  <a:lnTo>
                    <a:pt x="6211" y="597"/>
                  </a:lnTo>
                  <a:lnTo>
                    <a:pt x="6182" y="599"/>
                  </a:lnTo>
                  <a:lnTo>
                    <a:pt x="6149" y="597"/>
                  </a:lnTo>
                  <a:lnTo>
                    <a:pt x="6117" y="591"/>
                  </a:lnTo>
                  <a:lnTo>
                    <a:pt x="6087" y="581"/>
                  </a:lnTo>
                  <a:lnTo>
                    <a:pt x="6060" y="566"/>
                  </a:lnTo>
                  <a:lnTo>
                    <a:pt x="6046" y="656"/>
                  </a:lnTo>
                  <a:lnTo>
                    <a:pt x="6088" y="671"/>
                  </a:lnTo>
                  <a:lnTo>
                    <a:pt x="6116" y="678"/>
                  </a:lnTo>
                  <a:lnTo>
                    <a:pt x="6128" y="680"/>
                  </a:lnTo>
                  <a:lnTo>
                    <a:pt x="6144" y="682"/>
                  </a:lnTo>
                  <a:lnTo>
                    <a:pt x="6182" y="683"/>
                  </a:lnTo>
                  <a:lnTo>
                    <a:pt x="6228" y="680"/>
                  </a:lnTo>
                  <a:lnTo>
                    <a:pt x="6249" y="677"/>
                  </a:lnTo>
                  <a:lnTo>
                    <a:pt x="6270" y="673"/>
                  </a:lnTo>
                  <a:lnTo>
                    <a:pt x="6289" y="667"/>
                  </a:lnTo>
                  <a:lnTo>
                    <a:pt x="6308" y="659"/>
                  </a:lnTo>
                  <a:lnTo>
                    <a:pt x="6325" y="651"/>
                  </a:lnTo>
                  <a:lnTo>
                    <a:pt x="6342" y="641"/>
                  </a:lnTo>
                  <a:lnTo>
                    <a:pt x="6361" y="628"/>
                  </a:lnTo>
                  <a:lnTo>
                    <a:pt x="6377" y="612"/>
                  </a:lnTo>
                  <a:lnTo>
                    <a:pt x="6391" y="596"/>
                  </a:lnTo>
                  <a:lnTo>
                    <a:pt x="6402" y="579"/>
                  </a:lnTo>
                  <a:lnTo>
                    <a:pt x="6411" y="559"/>
                  </a:lnTo>
                  <a:lnTo>
                    <a:pt x="6417" y="539"/>
                  </a:lnTo>
                  <a:lnTo>
                    <a:pt x="6420" y="517"/>
                  </a:lnTo>
                  <a:lnTo>
                    <a:pt x="6423" y="494"/>
                  </a:lnTo>
                  <a:close/>
                  <a:moveTo>
                    <a:pt x="7013" y="96"/>
                  </a:moveTo>
                  <a:lnTo>
                    <a:pt x="7013" y="14"/>
                  </a:lnTo>
                  <a:lnTo>
                    <a:pt x="6516" y="14"/>
                  </a:lnTo>
                  <a:lnTo>
                    <a:pt x="6516" y="96"/>
                  </a:lnTo>
                  <a:lnTo>
                    <a:pt x="6716" y="96"/>
                  </a:lnTo>
                  <a:lnTo>
                    <a:pt x="6716" y="671"/>
                  </a:lnTo>
                  <a:lnTo>
                    <a:pt x="6812" y="671"/>
                  </a:lnTo>
                  <a:lnTo>
                    <a:pt x="6812" y="96"/>
                  </a:lnTo>
                  <a:lnTo>
                    <a:pt x="7013" y="96"/>
                  </a:lnTo>
                  <a:close/>
                  <a:moveTo>
                    <a:pt x="7238" y="671"/>
                  </a:moveTo>
                  <a:lnTo>
                    <a:pt x="7238" y="14"/>
                  </a:lnTo>
                  <a:lnTo>
                    <a:pt x="7143" y="14"/>
                  </a:lnTo>
                  <a:lnTo>
                    <a:pt x="7143" y="671"/>
                  </a:lnTo>
                  <a:lnTo>
                    <a:pt x="7238" y="671"/>
                  </a:lnTo>
                  <a:close/>
                  <a:moveTo>
                    <a:pt x="7867" y="96"/>
                  </a:moveTo>
                  <a:lnTo>
                    <a:pt x="7867" y="14"/>
                  </a:lnTo>
                  <a:lnTo>
                    <a:pt x="7370" y="14"/>
                  </a:lnTo>
                  <a:lnTo>
                    <a:pt x="7370" y="96"/>
                  </a:lnTo>
                  <a:lnTo>
                    <a:pt x="7570" y="96"/>
                  </a:lnTo>
                  <a:lnTo>
                    <a:pt x="7570" y="671"/>
                  </a:lnTo>
                  <a:lnTo>
                    <a:pt x="7666" y="671"/>
                  </a:lnTo>
                  <a:lnTo>
                    <a:pt x="7666" y="96"/>
                  </a:lnTo>
                  <a:lnTo>
                    <a:pt x="7867" y="96"/>
                  </a:lnTo>
                  <a:close/>
                  <a:moveTo>
                    <a:pt x="8512" y="398"/>
                  </a:moveTo>
                  <a:lnTo>
                    <a:pt x="8512" y="14"/>
                  </a:lnTo>
                  <a:lnTo>
                    <a:pt x="8415" y="14"/>
                  </a:lnTo>
                  <a:lnTo>
                    <a:pt x="8415" y="414"/>
                  </a:lnTo>
                  <a:lnTo>
                    <a:pt x="8412" y="454"/>
                  </a:lnTo>
                  <a:lnTo>
                    <a:pt x="8405" y="488"/>
                  </a:lnTo>
                  <a:lnTo>
                    <a:pt x="8400" y="504"/>
                  </a:lnTo>
                  <a:lnTo>
                    <a:pt x="8393" y="519"/>
                  </a:lnTo>
                  <a:lnTo>
                    <a:pt x="8386" y="533"/>
                  </a:lnTo>
                  <a:lnTo>
                    <a:pt x="8377" y="546"/>
                  </a:lnTo>
                  <a:lnTo>
                    <a:pt x="8365" y="559"/>
                  </a:lnTo>
                  <a:lnTo>
                    <a:pt x="8353" y="569"/>
                  </a:lnTo>
                  <a:lnTo>
                    <a:pt x="8340" y="579"/>
                  </a:lnTo>
                  <a:lnTo>
                    <a:pt x="8325" y="586"/>
                  </a:lnTo>
                  <a:lnTo>
                    <a:pt x="8294" y="596"/>
                  </a:lnTo>
                  <a:lnTo>
                    <a:pt x="8275" y="598"/>
                  </a:lnTo>
                  <a:lnTo>
                    <a:pt x="8257" y="599"/>
                  </a:lnTo>
                  <a:lnTo>
                    <a:pt x="8220" y="596"/>
                  </a:lnTo>
                  <a:lnTo>
                    <a:pt x="8203" y="592"/>
                  </a:lnTo>
                  <a:lnTo>
                    <a:pt x="8188" y="586"/>
                  </a:lnTo>
                  <a:lnTo>
                    <a:pt x="8174" y="579"/>
                  </a:lnTo>
                  <a:lnTo>
                    <a:pt x="8160" y="569"/>
                  </a:lnTo>
                  <a:lnTo>
                    <a:pt x="8148" y="558"/>
                  </a:lnTo>
                  <a:lnTo>
                    <a:pt x="8137" y="546"/>
                  </a:lnTo>
                  <a:lnTo>
                    <a:pt x="8119" y="519"/>
                  </a:lnTo>
                  <a:lnTo>
                    <a:pt x="8112" y="504"/>
                  </a:lnTo>
                  <a:lnTo>
                    <a:pt x="8107" y="488"/>
                  </a:lnTo>
                  <a:lnTo>
                    <a:pt x="8102" y="471"/>
                  </a:lnTo>
                  <a:lnTo>
                    <a:pt x="8099" y="454"/>
                  </a:lnTo>
                  <a:lnTo>
                    <a:pt x="8098" y="434"/>
                  </a:lnTo>
                  <a:lnTo>
                    <a:pt x="8097" y="414"/>
                  </a:lnTo>
                  <a:lnTo>
                    <a:pt x="8097" y="14"/>
                  </a:lnTo>
                  <a:lnTo>
                    <a:pt x="8001" y="14"/>
                  </a:lnTo>
                  <a:lnTo>
                    <a:pt x="8001" y="398"/>
                  </a:lnTo>
                  <a:lnTo>
                    <a:pt x="8003" y="427"/>
                  </a:lnTo>
                  <a:lnTo>
                    <a:pt x="8005" y="456"/>
                  </a:lnTo>
                  <a:lnTo>
                    <a:pt x="8010" y="482"/>
                  </a:lnTo>
                  <a:lnTo>
                    <a:pt x="8016" y="508"/>
                  </a:lnTo>
                  <a:lnTo>
                    <a:pt x="8023" y="531"/>
                  </a:lnTo>
                  <a:lnTo>
                    <a:pt x="8033" y="554"/>
                  </a:lnTo>
                  <a:lnTo>
                    <a:pt x="8045" y="574"/>
                  </a:lnTo>
                  <a:lnTo>
                    <a:pt x="8057" y="594"/>
                  </a:lnTo>
                  <a:lnTo>
                    <a:pt x="8074" y="615"/>
                  </a:lnTo>
                  <a:lnTo>
                    <a:pt x="8095" y="633"/>
                  </a:lnTo>
                  <a:lnTo>
                    <a:pt x="8116" y="648"/>
                  </a:lnTo>
                  <a:lnTo>
                    <a:pt x="8129" y="655"/>
                  </a:lnTo>
                  <a:lnTo>
                    <a:pt x="8141" y="660"/>
                  </a:lnTo>
                  <a:lnTo>
                    <a:pt x="8166" y="671"/>
                  </a:lnTo>
                  <a:lnTo>
                    <a:pt x="8194" y="678"/>
                  </a:lnTo>
                  <a:lnTo>
                    <a:pt x="8224" y="682"/>
                  </a:lnTo>
                  <a:lnTo>
                    <a:pt x="8257" y="683"/>
                  </a:lnTo>
                  <a:lnTo>
                    <a:pt x="8288" y="682"/>
                  </a:lnTo>
                  <a:lnTo>
                    <a:pt x="8318" y="678"/>
                  </a:lnTo>
                  <a:lnTo>
                    <a:pt x="8346" y="671"/>
                  </a:lnTo>
                  <a:lnTo>
                    <a:pt x="8372" y="660"/>
                  </a:lnTo>
                  <a:lnTo>
                    <a:pt x="8396" y="648"/>
                  </a:lnTo>
                  <a:lnTo>
                    <a:pt x="8407" y="641"/>
                  </a:lnTo>
                  <a:lnTo>
                    <a:pt x="8417" y="633"/>
                  </a:lnTo>
                  <a:lnTo>
                    <a:pt x="8428" y="625"/>
                  </a:lnTo>
                  <a:lnTo>
                    <a:pt x="8438" y="615"/>
                  </a:lnTo>
                  <a:lnTo>
                    <a:pt x="8455" y="594"/>
                  </a:lnTo>
                  <a:lnTo>
                    <a:pt x="8469" y="574"/>
                  </a:lnTo>
                  <a:lnTo>
                    <a:pt x="8480" y="554"/>
                  </a:lnTo>
                  <a:lnTo>
                    <a:pt x="8490" y="531"/>
                  </a:lnTo>
                  <a:lnTo>
                    <a:pt x="8498" y="508"/>
                  </a:lnTo>
                  <a:lnTo>
                    <a:pt x="8505" y="482"/>
                  </a:lnTo>
                  <a:lnTo>
                    <a:pt x="8509" y="456"/>
                  </a:lnTo>
                  <a:lnTo>
                    <a:pt x="8512" y="427"/>
                  </a:lnTo>
                  <a:lnTo>
                    <a:pt x="8512" y="398"/>
                  </a:lnTo>
                  <a:close/>
                  <a:moveTo>
                    <a:pt x="9143" y="96"/>
                  </a:moveTo>
                  <a:lnTo>
                    <a:pt x="9143" y="14"/>
                  </a:lnTo>
                  <a:lnTo>
                    <a:pt x="8646" y="14"/>
                  </a:lnTo>
                  <a:lnTo>
                    <a:pt x="8646" y="96"/>
                  </a:lnTo>
                  <a:lnTo>
                    <a:pt x="8847" y="96"/>
                  </a:lnTo>
                  <a:lnTo>
                    <a:pt x="8847" y="671"/>
                  </a:lnTo>
                  <a:lnTo>
                    <a:pt x="8943" y="671"/>
                  </a:lnTo>
                  <a:lnTo>
                    <a:pt x="8943" y="96"/>
                  </a:lnTo>
                  <a:lnTo>
                    <a:pt x="9143" y="96"/>
                  </a:lnTo>
                  <a:close/>
                  <a:moveTo>
                    <a:pt x="9651" y="96"/>
                  </a:moveTo>
                  <a:lnTo>
                    <a:pt x="9651" y="14"/>
                  </a:lnTo>
                  <a:lnTo>
                    <a:pt x="9281" y="14"/>
                  </a:lnTo>
                  <a:lnTo>
                    <a:pt x="9281" y="671"/>
                  </a:lnTo>
                  <a:lnTo>
                    <a:pt x="9649" y="671"/>
                  </a:lnTo>
                  <a:lnTo>
                    <a:pt x="9649" y="587"/>
                  </a:lnTo>
                  <a:lnTo>
                    <a:pt x="9377" y="587"/>
                  </a:lnTo>
                  <a:lnTo>
                    <a:pt x="9377" y="371"/>
                  </a:lnTo>
                  <a:lnTo>
                    <a:pt x="9627" y="371"/>
                  </a:lnTo>
                  <a:lnTo>
                    <a:pt x="9627" y="287"/>
                  </a:lnTo>
                  <a:lnTo>
                    <a:pt x="9377" y="287"/>
                  </a:lnTo>
                  <a:lnTo>
                    <a:pt x="9377" y="96"/>
                  </a:lnTo>
                  <a:lnTo>
                    <a:pt x="9651" y="96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" name="Picture 4" descr=""/>
          <p:cNvPicPr/>
          <p:nvPr/>
        </p:nvPicPr>
        <p:blipFill>
          <a:blip r:embed="rId2"/>
          <a:stretch/>
        </p:blipFill>
        <p:spPr>
          <a:xfrm>
            <a:off x="7888320" y="5661000"/>
            <a:ext cx="1076400" cy="865080"/>
          </a:xfrm>
          <a:prstGeom prst="rect">
            <a:avLst/>
          </a:prstGeom>
          <a:ln w="0">
            <a:noFill/>
          </a:ln>
        </p:spPr>
      </p:pic>
      <p:sp>
        <p:nvSpPr>
          <p:cNvPr id="3" name="Rectangle 5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19936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052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2340000" y="652608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fi.opasnet.org/fi/Tekais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"/>
          <p:cNvGrpSpPr/>
          <p:nvPr/>
        </p:nvGrpSpPr>
        <p:grpSpPr>
          <a:xfrm>
            <a:off x="1241280" y="3951360"/>
            <a:ext cx="6653520" cy="190440"/>
            <a:chOff x="1241280" y="3951360"/>
            <a:chExt cx="6653520" cy="190440"/>
          </a:xfrm>
        </p:grpSpPr>
        <p:sp>
          <p:nvSpPr>
            <p:cNvPr id="44" name="Freeform 2"/>
            <p:cNvSpPr/>
            <p:nvPr/>
          </p:nvSpPr>
          <p:spPr>
            <a:xfrm>
              <a:off x="4195800" y="3951360"/>
              <a:ext cx="3699000" cy="190440"/>
            </a:xfrm>
            <a:custGeom>
              <a:avLst/>
              <a:gdLst/>
              <a:ahLst/>
              <a:rect l="l" t="t" r="r" b="b"/>
              <a:pathLst>
                <a:path w="2476" h="133">
                  <a:moveTo>
                    <a:pt x="72" y="18"/>
                  </a:moveTo>
                  <a:lnTo>
                    <a:pt x="72" y="2"/>
                  </a:lnTo>
                  <a:lnTo>
                    <a:pt x="0" y="2"/>
                  </a:lnTo>
                  <a:lnTo>
                    <a:pt x="0" y="130"/>
                  </a:lnTo>
                  <a:lnTo>
                    <a:pt x="18" y="130"/>
                  </a:lnTo>
                  <a:lnTo>
                    <a:pt x="18" y="72"/>
                  </a:lnTo>
                  <a:lnTo>
                    <a:pt x="67" y="72"/>
                  </a:lnTo>
                  <a:lnTo>
                    <a:pt x="67" y="55"/>
                  </a:lnTo>
                  <a:lnTo>
                    <a:pt x="18" y="55"/>
                  </a:lnTo>
                  <a:lnTo>
                    <a:pt x="18" y="18"/>
                  </a:lnTo>
                  <a:lnTo>
                    <a:pt x="72" y="18"/>
                  </a:lnTo>
                  <a:close/>
                  <a:moveTo>
                    <a:pt x="215" y="66"/>
                  </a:moveTo>
                  <a:lnTo>
                    <a:pt x="215" y="59"/>
                  </a:lnTo>
                  <a:lnTo>
                    <a:pt x="214" y="52"/>
                  </a:lnTo>
                  <a:lnTo>
                    <a:pt x="213" y="46"/>
                  </a:lnTo>
                  <a:lnTo>
                    <a:pt x="211" y="40"/>
                  </a:lnTo>
                  <a:lnTo>
                    <a:pt x="209" y="34"/>
                  </a:lnTo>
                  <a:lnTo>
                    <a:pt x="206" y="29"/>
                  </a:lnTo>
                  <a:lnTo>
                    <a:pt x="203" y="24"/>
                  </a:lnTo>
                  <a:lnTo>
                    <a:pt x="199" y="19"/>
                  </a:lnTo>
                  <a:lnTo>
                    <a:pt x="195" y="14"/>
                  </a:lnTo>
                  <a:lnTo>
                    <a:pt x="190" y="11"/>
                  </a:lnTo>
                  <a:lnTo>
                    <a:pt x="185" y="7"/>
                  </a:lnTo>
                  <a:lnTo>
                    <a:pt x="179" y="5"/>
                  </a:lnTo>
                  <a:lnTo>
                    <a:pt x="173" y="2"/>
                  </a:lnTo>
                  <a:lnTo>
                    <a:pt x="167" y="1"/>
                  </a:lnTo>
                  <a:lnTo>
                    <a:pt x="160" y="0"/>
                  </a:lnTo>
                  <a:lnTo>
                    <a:pt x="153" y="0"/>
                  </a:lnTo>
                  <a:lnTo>
                    <a:pt x="146" y="0"/>
                  </a:lnTo>
                  <a:lnTo>
                    <a:pt x="139" y="1"/>
                  </a:lnTo>
                  <a:lnTo>
                    <a:pt x="133" y="2"/>
                  </a:lnTo>
                  <a:lnTo>
                    <a:pt x="127" y="5"/>
                  </a:lnTo>
                  <a:lnTo>
                    <a:pt x="122" y="7"/>
                  </a:lnTo>
                  <a:lnTo>
                    <a:pt x="117" y="11"/>
                  </a:lnTo>
                  <a:lnTo>
                    <a:pt x="112" y="14"/>
                  </a:lnTo>
                  <a:lnTo>
                    <a:pt x="107" y="19"/>
                  </a:lnTo>
                  <a:lnTo>
                    <a:pt x="104" y="24"/>
                  </a:lnTo>
                  <a:lnTo>
                    <a:pt x="101" y="29"/>
                  </a:lnTo>
                  <a:lnTo>
                    <a:pt x="98" y="34"/>
                  </a:lnTo>
                  <a:lnTo>
                    <a:pt x="96" y="40"/>
                  </a:lnTo>
                  <a:lnTo>
                    <a:pt x="94" y="46"/>
                  </a:lnTo>
                  <a:lnTo>
                    <a:pt x="93" y="52"/>
                  </a:lnTo>
                  <a:lnTo>
                    <a:pt x="92" y="59"/>
                  </a:lnTo>
                  <a:lnTo>
                    <a:pt x="92" y="66"/>
                  </a:lnTo>
                  <a:lnTo>
                    <a:pt x="92" y="73"/>
                  </a:lnTo>
                  <a:lnTo>
                    <a:pt x="93" y="80"/>
                  </a:lnTo>
                  <a:lnTo>
                    <a:pt x="94" y="86"/>
                  </a:lnTo>
                  <a:lnTo>
                    <a:pt x="96" y="92"/>
                  </a:lnTo>
                  <a:lnTo>
                    <a:pt x="98" y="98"/>
                  </a:lnTo>
                  <a:lnTo>
                    <a:pt x="101" y="104"/>
                  </a:lnTo>
                  <a:lnTo>
                    <a:pt x="104" y="109"/>
                  </a:lnTo>
                  <a:lnTo>
                    <a:pt x="107" y="113"/>
                  </a:lnTo>
                  <a:lnTo>
                    <a:pt x="112" y="118"/>
                  </a:lnTo>
                  <a:lnTo>
                    <a:pt x="117" y="122"/>
                  </a:lnTo>
                  <a:lnTo>
                    <a:pt x="122" y="125"/>
                  </a:lnTo>
                  <a:lnTo>
                    <a:pt x="127" y="128"/>
                  </a:lnTo>
                  <a:lnTo>
                    <a:pt x="133" y="130"/>
                  </a:lnTo>
                  <a:lnTo>
                    <a:pt x="139" y="132"/>
                  </a:lnTo>
                  <a:lnTo>
                    <a:pt x="146" y="132"/>
                  </a:lnTo>
                  <a:lnTo>
                    <a:pt x="153" y="133"/>
                  </a:lnTo>
                  <a:lnTo>
                    <a:pt x="160" y="132"/>
                  </a:lnTo>
                  <a:lnTo>
                    <a:pt x="167" y="132"/>
                  </a:lnTo>
                  <a:lnTo>
                    <a:pt x="173" y="130"/>
                  </a:lnTo>
                  <a:lnTo>
                    <a:pt x="179" y="128"/>
                  </a:lnTo>
                  <a:lnTo>
                    <a:pt x="185" y="125"/>
                  </a:lnTo>
                  <a:lnTo>
                    <a:pt x="190" y="122"/>
                  </a:lnTo>
                  <a:lnTo>
                    <a:pt x="195" y="118"/>
                  </a:lnTo>
                  <a:lnTo>
                    <a:pt x="199" y="113"/>
                  </a:lnTo>
                  <a:lnTo>
                    <a:pt x="203" y="109"/>
                  </a:lnTo>
                  <a:lnTo>
                    <a:pt x="206" y="103"/>
                  </a:lnTo>
                  <a:lnTo>
                    <a:pt x="209" y="98"/>
                  </a:lnTo>
                  <a:lnTo>
                    <a:pt x="211" y="92"/>
                  </a:lnTo>
                  <a:lnTo>
                    <a:pt x="213" y="86"/>
                  </a:lnTo>
                  <a:lnTo>
                    <a:pt x="214" y="80"/>
                  </a:lnTo>
                  <a:lnTo>
                    <a:pt x="215" y="73"/>
                  </a:lnTo>
                  <a:lnTo>
                    <a:pt x="215" y="66"/>
                  </a:lnTo>
                  <a:close/>
                  <a:moveTo>
                    <a:pt x="196" y="66"/>
                  </a:moveTo>
                  <a:lnTo>
                    <a:pt x="195" y="72"/>
                  </a:lnTo>
                  <a:lnTo>
                    <a:pt x="195" y="77"/>
                  </a:lnTo>
                  <a:lnTo>
                    <a:pt x="193" y="86"/>
                  </a:lnTo>
                  <a:lnTo>
                    <a:pt x="191" y="90"/>
                  </a:lnTo>
                  <a:lnTo>
                    <a:pt x="189" y="95"/>
                  </a:lnTo>
                  <a:lnTo>
                    <a:pt x="184" y="102"/>
                  </a:lnTo>
                  <a:lnTo>
                    <a:pt x="181" y="105"/>
                  </a:lnTo>
                  <a:lnTo>
                    <a:pt x="178" y="108"/>
                  </a:lnTo>
                  <a:lnTo>
                    <a:pt x="175" y="111"/>
                  </a:lnTo>
                  <a:lnTo>
                    <a:pt x="171" y="113"/>
                  </a:lnTo>
                  <a:lnTo>
                    <a:pt x="167" y="114"/>
                  </a:lnTo>
                  <a:lnTo>
                    <a:pt x="163" y="115"/>
                  </a:lnTo>
                  <a:lnTo>
                    <a:pt x="158" y="116"/>
                  </a:lnTo>
                  <a:lnTo>
                    <a:pt x="153" y="116"/>
                  </a:lnTo>
                  <a:lnTo>
                    <a:pt x="149" y="116"/>
                  </a:lnTo>
                  <a:lnTo>
                    <a:pt x="144" y="115"/>
                  </a:lnTo>
                  <a:lnTo>
                    <a:pt x="140" y="114"/>
                  </a:lnTo>
                  <a:lnTo>
                    <a:pt x="136" y="113"/>
                  </a:lnTo>
                  <a:lnTo>
                    <a:pt x="132" y="111"/>
                  </a:lnTo>
                  <a:lnTo>
                    <a:pt x="128" y="108"/>
                  </a:lnTo>
                  <a:lnTo>
                    <a:pt x="125" y="105"/>
                  </a:lnTo>
                  <a:lnTo>
                    <a:pt x="122" y="102"/>
                  </a:lnTo>
                  <a:lnTo>
                    <a:pt x="120" y="98"/>
                  </a:lnTo>
                  <a:lnTo>
                    <a:pt x="117" y="95"/>
                  </a:lnTo>
                  <a:lnTo>
                    <a:pt x="115" y="90"/>
                  </a:lnTo>
                  <a:lnTo>
                    <a:pt x="114" y="86"/>
                  </a:lnTo>
                  <a:lnTo>
                    <a:pt x="112" y="81"/>
                  </a:lnTo>
                  <a:lnTo>
                    <a:pt x="112" y="77"/>
                  </a:lnTo>
                  <a:lnTo>
                    <a:pt x="111" y="72"/>
                  </a:lnTo>
                  <a:lnTo>
                    <a:pt x="111" y="66"/>
                  </a:lnTo>
                  <a:lnTo>
                    <a:pt x="111" y="61"/>
                  </a:lnTo>
                  <a:lnTo>
                    <a:pt x="112" y="56"/>
                  </a:lnTo>
                  <a:lnTo>
                    <a:pt x="114" y="46"/>
                  </a:lnTo>
                  <a:lnTo>
                    <a:pt x="115" y="42"/>
                  </a:lnTo>
                  <a:lnTo>
                    <a:pt x="117" y="38"/>
                  </a:lnTo>
                  <a:lnTo>
                    <a:pt x="122" y="31"/>
                  </a:lnTo>
                  <a:lnTo>
                    <a:pt x="125" y="27"/>
                  </a:lnTo>
                  <a:lnTo>
                    <a:pt x="128" y="24"/>
                  </a:lnTo>
                  <a:lnTo>
                    <a:pt x="132" y="22"/>
                  </a:lnTo>
                  <a:lnTo>
                    <a:pt x="136" y="20"/>
                  </a:lnTo>
                  <a:lnTo>
                    <a:pt x="140" y="18"/>
                  </a:lnTo>
                  <a:lnTo>
                    <a:pt x="144" y="17"/>
                  </a:lnTo>
                  <a:lnTo>
                    <a:pt x="149" y="16"/>
                  </a:lnTo>
                  <a:lnTo>
                    <a:pt x="153" y="16"/>
                  </a:lnTo>
                  <a:lnTo>
                    <a:pt x="158" y="16"/>
                  </a:lnTo>
                  <a:lnTo>
                    <a:pt x="163" y="17"/>
                  </a:lnTo>
                  <a:lnTo>
                    <a:pt x="167" y="18"/>
                  </a:lnTo>
                  <a:lnTo>
                    <a:pt x="171" y="20"/>
                  </a:lnTo>
                  <a:lnTo>
                    <a:pt x="175" y="22"/>
                  </a:lnTo>
                  <a:lnTo>
                    <a:pt x="178" y="24"/>
                  </a:lnTo>
                  <a:lnTo>
                    <a:pt x="181" y="27"/>
                  </a:lnTo>
                  <a:lnTo>
                    <a:pt x="184" y="31"/>
                  </a:lnTo>
                  <a:lnTo>
                    <a:pt x="187" y="34"/>
                  </a:lnTo>
                  <a:lnTo>
                    <a:pt x="189" y="38"/>
                  </a:lnTo>
                  <a:lnTo>
                    <a:pt x="191" y="42"/>
                  </a:lnTo>
                  <a:lnTo>
                    <a:pt x="193" y="46"/>
                  </a:lnTo>
                  <a:lnTo>
                    <a:pt x="194" y="51"/>
                  </a:lnTo>
                  <a:lnTo>
                    <a:pt x="195" y="56"/>
                  </a:lnTo>
                  <a:lnTo>
                    <a:pt x="195" y="61"/>
                  </a:lnTo>
                  <a:lnTo>
                    <a:pt x="196" y="66"/>
                  </a:lnTo>
                  <a:close/>
                  <a:moveTo>
                    <a:pt x="336" y="130"/>
                  </a:moveTo>
                  <a:lnTo>
                    <a:pt x="336" y="114"/>
                  </a:lnTo>
                  <a:lnTo>
                    <a:pt x="332" y="114"/>
                  </a:lnTo>
                  <a:lnTo>
                    <a:pt x="330" y="114"/>
                  </a:lnTo>
                  <a:lnTo>
                    <a:pt x="329" y="113"/>
                  </a:lnTo>
                  <a:lnTo>
                    <a:pt x="327" y="112"/>
                  </a:lnTo>
                  <a:lnTo>
                    <a:pt x="325" y="110"/>
                  </a:lnTo>
                  <a:lnTo>
                    <a:pt x="321" y="104"/>
                  </a:lnTo>
                  <a:lnTo>
                    <a:pt x="317" y="97"/>
                  </a:lnTo>
                  <a:lnTo>
                    <a:pt x="312" y="87"/>
                  </a:lnTo>
                  <a:lnTo>
                    <a:pt x="308" y="78"/>
                  </a:lnTo>
                  <a:lnTo>
                    <a:pt x="304" y="72"/>
                  </a:lnTo>
                  <a:lnTo>
                    <a:pt x="300" y="67"/>
                  </a:lnTo>
                  <a:lnTo>
                    <a:pt x="306" y="64"/>
                  </a:lnTo>
                  <a:lnTo>
                    <a:pt x="311" y="61"/>
                  </a:lnTo>
                  <a:lnTo>
                    <a:pt x="315" y="58"/>
                  </a:lnTo>
                  <a:lnTo>
                    <a:pt x="319" y="54"/>
                  </a:lnTo>
                  <a:lnTo>
                    <a:pt x="322" y="50"/>
                  </a:lnTo>
                  <a:lnTo>
                    <a:pt x="324" y="45"/>
                  </a:lnTo>
                  <a:lnTo>
                    <a:pt x="325" y="40"/>
                  </a:lnTo>
                  <a:lnTo>
                    <a:pt x="325" y="35"/>
                  </a:lnTo>
                  <a:lnTo>
                    <a:pt x="325" y="32"/>
                  </a:lnTo>
                  <a:lnTo>
                    <a:pt x="324" y="28"/>
                  </a:lnTo>
                  <a:lnTo>
                    <a:pt x="322" y="22"/>
                  </a:lnTo>
                  <a:lnTo>
                    <a:pt x="321" y="19"/>
                  </a:lnTo>
                  <a:lnTo>
                    <a:pt x="319" y="16"/>
                  </a:lnTo>
                  <a:lnTo>
                    <a:pt x="317" y="13"/>
                  </a:lnTo>
                  <a:lnTo>
                    <a:pt x="314" y="11"/>
                  </a:lnTo>
                  <a:lnTo>
                    <a:pt x="308" y="7"/>
                  </a:lnTo>
                  <a:lnTo>
                    <a:pt x="305" y="6"/>
                  </a:lnTo>
                  <a:lnTo>
                    <a:pt x="301" y="4"/>
                  </a:lnTo>
                  <a:lnTo>
                    <a:pt x="294" y="3"/>
                  </a:lnTo>
                  <a:lnTo>
                    <a:pt x="286" y="2"/>
                  </a:lnTo>
                  <a:lnTo>
                    <a:pt x="242" y="2"/>
                  </a:lnTo>
                  <a:lnTo>
                    <a:pt x="242" y="130"/>
                  </a:lnTo>
                  <a:lnTo>
                    <a:pt x="262" y="130"/>
                  </a:lnTo>
                  <a:lnTo>
                    <a:pt x="262" y="74"/>
                  </a:lnTo>
                  <a:lnTo>
                    <a:pt x="276" y="74"/>
                  </a:lnTo>
                  <a:lnTo>
                    <a:pt x="278" y="74"/>
                  </a:lnTo>
                  <a:lnTo>
                    <a:pt x="281" y="75"/>
                  </a:lnTo>
                  <a:lnTo>
                    <a:pt x="283" y="76"/>
                  </a:lnTo>
                  <a:lnTo>
                    <a:pt x="285" y="77"/>
                  </a:lnTo>
                  <a:lnTo>
                    <a:pt x="289" y="82"/>
                  </a:lnTo>
                  <a:lnTo>
                    <a:pt x="293" y="88"/>
                  </a:lnTo>
                  <a:lnTo>
                    <a:pt x="307" y="116"/>
                  </a:lnTo>
                  <a:lnTo>
                    <a:pt x="309" y="119"/>
                  </a:lnTo>
                  <a:lnTo>
                    <a:pt x="312" y="122"/>
                  </a:lnTo>
                  <a:lnTo>
                    <a:pt x="315" y="125"/>
                  </a:lnTo>
                  <a:lnTo>
                    <a:pt x="318" y="127"/>
                  </a:lnTo>
                  <a:lnTo>
                    <a:pt x="321" y="128"/>
                  </a:lnTo>
                  <a:lnTo>
                    <a:pt x="324" y="129"/>
                  </a:lnTo>
                  <a:lnTo>
                    <a:pt x="328" y="130"/>
                  </a:lnTo>
                  <a:lnTo>
                    <a:pt x="332" y="130"/>
                  </a:lnTo>
                  <a:lnTo>
                    <a:pt x="336" y="130"/>
                  </a:lnTo>
                  <a:close/>
                  <a:moveTo>
                    <a:pt x="305" y="35"/>
                  </a:moveTo>
                  <a:lnTo>
                    <a:pt x="305" y="40"/>
                  </a:lnTo>
                  <a:lnTo>
                    <a:pt x="304" y="44"/>
                  </a:lnTo>
                  <a:lnTo>
                    <a:pt x="302" y="47"/>
                  </a:lnTo>
                  <a:lnTo>
                    <a:pt x="299" y="51"/>
                  </a:lnTo>
                  <a:lnTo>
                    <a:pt x="295" y="54"/>
                  </a:lnTo>
                  <a:lnTo>
                    <a:pt x="291" y="56"/>
                  </a:lnTo>
                  <a:lnTo>
                    <a:pt x="287" y="57"/>
                  </a:lnTo>
                  <a:lnTo>
                    <a:pt x="283" y="57"/>
                  </a:lnTo>
                  <a:lnTo>
                    <a:pt x="262" y="57"/>
                  </a:lnTo>
                  <a:lnTo>
                    <a:pt x="262" y="18"/>
                  </a:lnTo>
                  <a:lnTo>
                    <a:pt x="283" y="18"/>
                  </a:lnTo>
                  <a:lnTo>
                    <a:pt x="287" y="18"/>
                  </a:lnTo>
                  <a:lnTo>
                    <a:pt x="291" y="19"/>
                  </a:lnTo>
                  <a:lnTo>
                    <a:pt x="295" y="21"/>
                  </a:lnTo>
                  <a:lnTo>
                    <a:pt x="298" y="23"/>
                  </a:lnTo>
                  <a:lnTo>
                    <a:pt x="301" y="25"/>
                  </a:lnTo>
                  <a:lnTo>
                    <a:pt x="304" y="28"/>
                  </a:lnTo>
                  <a:lnTo>
                    <a:pt x="305" y="32"/>
                  </a:lnTo>
                  <a:lnTo>
                    <a:pt x="305" y="35"/>
                  </a:lnTo>
                  <a:close/>
                  <a:moveTo>
                    <a:pt x="524" y="130"/>
                  </a:moveTo>
                  <a:lnTo>
                    <a:pt x="524" y="2"/>
                  </a:lnTo>
                  <a:lnTo>
                    <a:pt x="505" y="2"/>
                  </a:lnTo>
                  <a:lnTo>
                    <a:pt x="505" y="55"/>
                  </a:lnTo>
                  <a:lnTo>
                    <a:pt x="443" y="55"/>
                  </a:lnTo>
                  <a:lnTo>
                    <a:pt x="443" y="2"/>
                  </a:lnTo>
                  <a:lnTo>
                    <a:pt x="425" y="2"/>
                  </a:lnTo>
                  <a:lnTo>
                    <a:pt x="425" y="130"/>
                  </a:lnTo>
                  <a:lnTo>
                    <a:pt x="443" y="130"/>
                  </a:lnTo>
                  <a:lnTo>
                    <a:pt x="443" y="71"/>
                  </a:lnTo>
                  <a:lnTo>
                    <a:pt x="505" y="71"/>
                  </a:lnTo>
                  <a:lnTo>
                    <a:pt x="505" y="130"/>
                  </a:lnTo>
                  <a:lnTo>
                    <a:pt x="524" y="130"/>
                  </a:lnTo>
                  <a:close/>
                  <a:moveTo>
                    <a:pt x="632" y="18"/>
                  </a:moveTo>
                  <a:lnTo>
                    <a:pt x="632" y="2"/>
                  </a:lnTo>
                  <a:lnTo>
                    <a:pt x="560" y="2"/>
                  </a:lnTo>
                  <a:lnTo>
                    <a:pt x="560" y="130"/>
                  </a:lnTo>
                  <a:lnTo>
                    <a:pt x="632" y="130"/>
                  </a:lnTo>
                  <a:lnTo>
                    <a:pt x="632" y="114"/>
                  </a:lnTo>
                  <a:lnTo>
                    <a:pt x="579" y="114"/>
                  </a:lnTo>
                  <a:lnTo>
                    <a:pt x="579" y="72"/>
                  </a:lnTo>
                  <a:lnTo>
                    <a:pt x="628" y="72"/>
                  </a:lnTo>
                  <a:lnTo>
                    <a:pt x="628" y="55"/>
                  </a:lnTo>
                  <a:lnTo>
                    <a:pt x="579" y="55"/>
                  </a:lnTo>
                  <a:lnTo>
                    <a:pt x="579" y="18"/>
                  </a:lnTo>
                  <a:lnTo>
                    <a:pt x="632" y="18"/>
                  </a:lnTo>
                  <a:close/>
                  <a:moveTo>
                    <a:pt x="778" y="130"/>
                  </a:moveTo>
                  <a:lnTo>
                    <a:pt x="722" y="2"/>
                  </a:lnTo>
                  <a:lnTo>
                    <a:pt x="704" y="2"/>
                  </a:lnTo>
                  <a:lnTo>
                    <a:pt x="649" y="130"/>
                  </a:lnTo>
                  <a:lnTo>
                    <a:pt x="669" y="130"/>
                  </a:lnTo>
                  <a:lnTo>
                    <a:pt x="682" y="98"/>
                  </a:lnTo>
                  <a:lnTo>
                    <a:pt x="745" y="98"/>
                  </a:lnTo>
                  <a:lnTo>
                    <a:pt x="758" y="130"/>
                  </a:lnTo>
                  <a:lnTo>
                    <a:pt x="778" y="130"/>
                  </a:lnTo>
                  <a:close/>
                  <a:moveTo>
                    <a:pt x="739" y="83"/>
                  </a:moveTo>
                  <a:lnTo>
                    <a:pt x="688" y="83"/>
                  </a:lnTo>
                  <a:lnTo>
                    <a:pt x="713" y="20"/>
                  </a:lnTo>
                  <a:lnTo>
                    <a:pt x="739" y="83"/>
                  </a:lnTo>
                  <a:close/>
                  <a:moveTo>
                    <a:pt x="870" y="130"/>
                  </a:moveTo>
                  <a:lnTo>
                    <a:pt x="870" y="114"/>
                  </a:lnTo>
                  <a:lnTo>
                    <a:pt x="817" y="114"/>
                  </a:lnTo>
                  <a:lnTo>
                    <a:pt x="817" y="2"/>
                  </a:lnTo>
                  <a:lnTo>
                    <a:pt x="799" y="2"/>
                  </a:lnTo>
                  <a:lnTo>
                    <a:pt x="799" y="130"/>
                  </a:lnTo>
                  <a:lnTo>
                    <a:pt x="870" y="130"/>
                  </a:lnTo>
                  <a:close/>
                  <a:moveTo>
                    <a:pt x="976" y="18"/>
                  </a:moveTo>
                  <a:lnTo>
                    <a:pt x="976" y="2"/>
                  </a:lnTo>
                  <a:lnTo>
                    <a:pt x="879" y="2"/>
                  </a:lnTo>
                  <a:lnTo>
                    <a:pt x="879" y="18"/>
                  </a:lnTo>
                  <a:lnTo>
                    <a:pt x="918" y="18"/>
                  </a:lnTo>
                  <a:lnTo>
                    <a:pt x="918" y="130"/>
                  </a:lnTo>
                  <a:lnTo>
                    <a:pt x="937" y="130"/>
                  </a:lnTo>
                  <a:lnTo>
                    <a:pt x="937" y="18"/>
                  </a:lnTo>
                  <a:lnTo>
                    <a:pt x="976" y="18"/>
                  </a:lnTo>
                  <a:close/>
                  <a:moveTo>
                    <a:pt x="1097" y="130"/>
                  </a:moveTo>
                  <a:lnTo>
                    <a:pt x="1097" y="2"/>
                  </a:lnTo>
                  <a:lnTo>
                    <a:pt x="1078" y="2"/>
                  </a:lnTo>
                  <a:lnTo>
                    <a:pt x="1078" y="55"/>
                  </a:lnTo>
                  <a:lnTo>
                    <a:pt x="1016" y="55"/>
                  </a:lnTo>
                  <a:lnTo>
                    <a:pt x="1016" y="2"/>
                  </a:lnTo>
                  <a:lnTo>
                    <a:pt x="998" y="2"/>
                  </a:lnTo>
                  <a:lnTo>
                    <a:pt x="998" y="130"/>
                  </a:lnTo>
                  <a:lnTo>
                    <a:pt x="1016" y="130"/>
                  </a:lnTo>
                  <a:lnTo>
                    <a:pt x="1016" y="71"/>
                  </a:lnTo>
                  <a:lnTo>
                    <a:pt x="1078" y="71"/>
                  </a:lnTo>
                  <a:lnTo>
                    <a:pt x="1078" y="130"/>
                  </a:lnTo>
                  <a:lnTo>
                    <a:pt x="1097" y="130"/>
                  </a:lnTo>
                  <a:close/>
                  <a:moveTo>
                    <a:pt x="1312" y="130"/>
                  </a:moveTo>
                  <a:lnTo>
                    <a:pt x="1256" y="2"/>
                  </a:lnTo>
                  <a:lnTo>
                    <a:pt x="1238" y="2"/>
                  </a:lnTo>
                  <a:lnTo>
                    <a:pt x="1183" y="130"/>
                  </a:lnTo>
                  <a:lnTo>
                    <a:pt x="1203" y="130"/>
                  </a:lnTo>
                  <a:lnTo>
                    <a:pt x="1216" y="98"/>
                  </a:lnTo>
                  <a:lnTo>
                    <a:pt x="1279" y="98"/>
                  </a:lnTo>
                  <a:lnTo>
                    <a:pt x="1292" y="130"/>
                  </a:lnTo>
                  <a:lnTo>
                    <a:pt x="1312" y="130"/>
                  </a:lnTo>
                  <a:close/>
                  <a:moveTo>
                    <a:pt x="1273" y="83"/>
                  </a:moveTo>
                  <a:lnTo>
                    <a:pt x="1222" y="83"/>
                  </a:lnTo>
                  <a:lnTo>
                    <a:pt x="1247" y="20"/>
                  </a:lnTo>
                  <a:lnTo>
                    <a:pt x="1273" y="83"/>
                  </a:lnTo>
                  <a:close/>
                  <a:moveTo>
                    <a:pt x="1432" y="130"/>
                  </a:moveTo>
                  <a:lnTo>
                    <a:pt x="1432" y="2"/>
                  </a:lnTo>
                  <a:lnTo>
                    <a:pt x="1414" y="2"/>
                  </a:lnTo>
                  <a:lnTo>
                    <a:pt x="1414" y="105"/>
                  </a:lnTo>
                  <a:lnTo>
                    <a:pt x="1413" y="105"/>
                  </a:lnTo>
                  <a:lnTo>
                    <a:pt x="1357" y="2"/>
                  </a:lnTo>
                  <a:lnTo>
                    <a:pt x="1333" y="2"/>
                  </a:lnTo>
                  <a:lnTo>
                    <a:pt x="1333" y="130"/>
                  </a:lnTo>
                  <a:lnTo>
                    <a:pt x="1352" y="130"/>
                  </a:lnTo>
                  <a:lnTo>
                    <a:pt x="1352" y="28"/>
                  </a:lnTo>
                  <a:lnTo>
                    <a:pt x="1408" y="130"/>
                  </a:lnTo>
                  <a:lnTo>
                    <a:pt x="1432" y="130"/>
                  </a:lnTo>
                  <a:close/>
                  <a:moveTo>
                    <a:pt x="1573" y="67"/>
                  </a:moveTo>
                  <a:lnTo>
                    <a:pt x="1573" y="60"/>
                  </a:lnTo>
                  <a:lnTo>
                    <a:pt x="1572" y="54"/>
                  </a:lnTo>
                  <a:lnTo>
                    <a:pt x="1571" y="48"/>
                  </a:lnTo>
                  <a:lnTo>
                    <a:pt x="1569" y="42"/>
                  </a:lnTo>
                  <a:lnTo>
                    <a:pt x="1566" y="36"/>
                  </a:lnTo>
                  <a:lnTo>
                    <a:pt x="1564" y="31"/>
                  </a:lnTo>
                  <a:lnTo>
                    <a:pt x="1560" y="26"/>
                  </a:lnTo>
                  <a:lnTo>
                    <a:pt x="1556" y="21"/>
                  </a:lnTo>
                  <a:lnTo>
                    <a:pt x="1552" y="17"/>
                  </a:lnTo>
                  <a:lnTo>
                    <a:pt x="1547" y="13"/>
                  </a:lnTo>
                  <a:lnTo>
                    <a:pt x="1542" y="10"/>
                  </a:lnTo>
                  <a:lnTo>
                    <a:pt x="1536" y="7"/>
                  </a:lnTo>
                  <a:lnTo>
                    <a:pt x="1531" y="5"/>
                  </a:lnTo>
                  <a:lnTo>
                    <a:pt x="1524" y="3"/>
                  </a:lnTo>
                  <a:lnTo>
                    <a:pt x="1518" y="2"/>
                  </a:lnTo>
                  <a:lnTo>
                    <a:pt x="1511" y="2"/>
                  </a:lnTo>
                  <a:lnTo>
                    <a:pt x="1466" y="2"/>
                  </a:lnTo>
                  <a:lnTo>
                    <a:pt x="1466" y="130"/>
                  </a:lnTo>
                  <a:lnTo>
                    <a:pt x="1511" y="130"/>
                  </a:lnTo>
                  <a:lnTo>
                    <a:pt x="1518" y="130"/>
                  </a:lnTo>
                  <a:lnTo>
                    <a:pt x="1524" y="129"/>
                  </a:lnTo>
                  <a:lnTo>
                    <a:pt x="1531" y="128"/>
                  </a:lnTo>
                  <a:lnTo>
                    <a:pt x="1536" y="126"/>
                  </a:lnTo>
                  <a:lnTo>
                    <a:pt x="1542" y="123"/>
                  </a:lnTo>
                  <a:lnTo>
                    <a:pt x="1547" y="120"/>
                  </a:lnTo>
                  <a:lnTo>
                    <a:pt x="1552" y="116"/>
                  </a:lnTo>
                  <a:lnTo>
                    <a:pt x="1556" y="112"/>
                  </a:lnTo>
                  <a:lnTo>
                    <a:pt x="1560" y="107"/>
                  </a:lnTo>
                  <a:lnTo>
                    <a:pt x="1564" y="102"/>
                  </a:lnTo>
                  <a:lnTo>
                    <a:pt x="1566" y="97"/>
                  </a:lnTo>
                  <a:lnTo>
                    <a:pt x="1568" y="94"/>
                  </a:lnTo>
                  <a:lnTo>
                    <a:pt x="1569" y="91"/>
                  </a:lnTo>
                  <a:lnTo>
                    <a:pt x="1571" y="86"/>
                  </a:lnTo>
                  <a:lnTo>
                    <a:pt x="1572" y="80"/>
                  </a:lnTo>
                  <a:lnTo>
                    <a:pt x="1573" y="73"/>
                  </a:lnTo>
                  <a:lnTo>
                    <a:pt x="1573" y="67"/>
                  </a:lnTo>
                  <a:close/>
                  <a:moveTo>
                    <a:pt x="1554" y="67"/>
                  </a:moveTo>
                  <a:lnTo>
                    <a:pt x="1554" y="72"/>
                  </a:lnTo>
                  <a:lnTo>
                    <a:pt x="1554" y="76"/>
                  </a:lnTo>
                  <a:lnTo>
                    <a:pt x="1553" y="81"/>
                  </a:lnTo>
                  <a:lnTo>
                    <a:pt x="1551" y="85"/>
                  </a:lnTo>
                  <a:lnTo>
                    <a:pt x="1550" y="89"/>
                  </a:lnTo>
                  <a:lnTo>
                    <a:pt x="1548" y="93"/>
                  </a:lnTo>
                  <a:lnTo>
                    <a:pt x="1543" y="100"/>
                  </a:lnTo>
                  <a:lnTo>
                    <a:pt x="1539" y="103"/>
                  </a:lnTo>
                  <a:lnTo>
                    <a:pt x="1536" y="106"/>
                  </a:lnTo>
                  <a:lnTo>
                    <a:pt x="1532" y="109"/>
                  </a:lnTo>
                  <a:lnTo>
                    <a:pt x="1529" y="110"/>
                  </a:lnTo>
                  <a:lnTo>
                    <a:pt x="1525" y="112"/>
                  </a:lnTo>
                  <a:lnTo>
                    <a:pt x="1520" y="113"/>
                  </a:lnTo>
                  <a:lnTo>
                    <a:pt x="1511" y="114"/>
                  </a:lnTo>
                  <a:lnTo>
                    <a:pt x="1485" y="114"/>
                  </a:lnTo>
                  <a:lnTo>
                    <a:pt x="1485" y="18"/>
                  </a:lnTo>
                  <a:lnTo>
                    <a:pt x="1511" y="18"/>
                  </a:lnTo>
                  <a:lnTo>
                    <a:pt x="1516" y="19"/>
                  </a:lnTo>
                  <a:lnTo>
                    <a:pt x="1520" y="19"/>
                  </a:lnTo>
                  <a:lnTo>
                    <a:pt x="1525" y="21"/>
                  </a:lnTo>
                  <a:lnTo>
                    <a:pt x="1529" y="22"/>
                  </a:lnTo>
                  <a:lnTo>
                    <a:pt x="1532" y="24"/>
                  </a:lnTo>
                  <a:lnTo>
                    <a:pt x="1536" y="27"/>
                  </a:lnTo>
                  <a:lnTo>
                    <a:pt x="1539" y="30"/>
                  </a:lnTo>
                  <a:lnTo>
                    <a:pt x="1543" y="33"/>
                  </a:lnTo>
                  <a:lnTo>
                    <a:pt x="1545" y="37"/>
                  </a:lnTo>
                  <a:lnTo>
                    <a:pt x="1548" y="41"/>
                  </a:lnTo>
                  <a:lnTo>
                    <a:pt x="1550" y="44"/>
                  </a:lnTo>
                  <a:lnTo>
                    <a:pt x="1551" y="49"/>
                  </a:lnTo>
                  <a:lnTo>
                    <a:pt x="1553" y="53"/>
                  </a:lnTo>
                  <a:lnTo>
                    <a:pt x="1554" y="57"/>
                  </a:lnTo>
                  <a:lnTo>
                    <a:pt x="1554" y="62"/>
                  </a:lnTo>
                  <a:lnTo>
                    <a:pt x="1554" y="67"/>
                  </a:lnTo>
                  <a:close/>
                  <a:moveTo>
                    <a:pt x="1835" y="2"/>
                  </a:moveTo>
                  <a:lnTo>
                    <a:pt x="1816" y="2"/>
                  </a:lnTo>
                  <a:lnTo>
                    <a:pt x="1784" y="108"/>
                  </a:lnTo>
                  <a:lnTo>
                    <a:pt x="1783" y="108"/>
                  </a:lnTo>
                  <a:lnTo>
                    <a:pt x="1756" y="2"/>
                  </a:lnTo>
                  <a:lnTo>
                    <a:pt x="1730" y="2"/>
                  </a:lnTo>
                  <a:lnTo>
                    <a:pt x="1703" y="108"/>
                  </a:lnTo>
                  <a:lnTo>
                    <a:pt x="1701" y="108"/>
                  </a:lnTo>
                  <a:lnTo>
                    <a:pt x="1670" y="2"/>
                  </a:lnTo>
                  <a:lnTo>
                    <a:pt x="1650" y="2"/>
                  </a:lnTo>
                  <a:lnTo>
                    <a:pt x="1690" y="130"/>
                  </a:lnTo>
                  <a:lnTo>
                    <a:pt x="1714" y="130"/>
                  </a:lnTo>
                  <a:lnTo>
                    <a:pt x="1743" y="19"/>
                  </a:lnTo>
                  <a:lnTo>
                    <a:pt x="1744" y="19"/>
                  </a:lnTo>
                  <a:lnTo>
                    <a:pt x="1772" y="130"/>
                  </a:lnTo>
                  <a:lnTo>
                    <a:pt x="1795" y="130"/>
                  </a:lnTo>
                  <a:lnTo>
                    <a:pt x="1835" y="2"/>
                  </a:lnTo>
                  <a:close/>
                  <a:moveTo>
                    <a:pt x="1929" y="18"/>
                  </a:moveTo>
                  <a:lnTo>
                    <a:pt x="1929" y="2"/>
                  </a:lnTo>
                  <a:lnTo>
                    <a:pt x="1856" y="2"/>
                  </a:lnTo>
                  <a:lnTo>
                    <a:pt x="1856" y="130"/>
                  </a:lnTo>
                  <a:lnTo>
                    <a:pt x="1928" y="130"/>
                  </a:lnTo>
                  <a:lnTo>
                    <a:pt x="1928" y="114"/>
                  </a:lnTo>
                  <a:lnTo>
                    <a:pt x="1875" y="114"/>
                  </a:lnTo>
                  <a:lnTo>
                    <a:pt x="1875" y="72"/>
                  </a:lnTo>
                  <a:lnTo>
                    <a:pt x="1924" y="72"/>
                  </a:lnTo>
                  <a:lnTo>
                    <a:pt x="1924" y="55"/>
                  </a:lnTo>
                  <a:lnTo>
                    <a:pt x="1875" y="55"/>
                  </a:lnTo>
                  <a:lnTo>
                    <a:pt x="1875" y="18"/>
                  </a:lnTo>
                  <a:lnTo>
                    <a:pt x="1929" y="18"/>
                  </a:lnTo>
                  <a:close/>
                  <a:moveTo>
                    <a:pt x="2031" y="130"/>
                  </a:moveTo>
                  <a:lnTo>
                    <a:pt x="2031" y="114"/>
                  </a:lnTo>
                  <a:lnTo>
                    <a:pt x="1978" y="114"/>
                  </a:lnTo>
                  <a:lnTo>
                    <a:pt x="1978" y="2"/>
                  </a:lnTo>
                  <a:lnTo>
                    <a:pt x="1960" y="2"/>
                  </a:lnTo>
                  <a:lnTo>
                    <a:pt x="1960" y="130"/>
                  </a:lnTo>
                  <a:lnTo>
                    <a:pt x="2031" y="130"/>
                  </a:lnTo>
                  <a:close/>
                  <a:moveTo>
                    <a:pt x="2127" y="18"/>
                  </a:moveTo>
                  <a:lnTo>
                    <a:pt x="2127" y="2"/>
                  </a:lnTo>
                  <a:lnTo>
                    <a:pt x="2055" y="2"/>
                  </a:lnTo>
                  <a:lnTo>
                    <a:pt x="2055" y="130"/>
                  </a:lnTo>
                  <a:lnTo>
                    <a:pt x="2073" y="130"/>
                  </a:lnTo>
                  <a:lnTo>
                    <a:pt x="2073" y="72"/>
                  </a:lnTo>
                  <a:lnTo>
                    <a:pt x="2122" y="72"/>
                  </a:lnTo>
                  <a:lnTo>
                    <a:pt x="2122" y="55"/>
                  </a:lnTo>
                  <a:lnTo>
                    <a:pt x="2073" y="55"/>
                  </a:lnTo>
                  <a:lnTo>
                    <a:pt x="2073" y="18"/>
                  </a:lnTo>
                  <a:lnTo>
                    <a:pt x="2127" y="18"/>
                  </a:lnTo>
                  <a:close/>
                  <a:moveTo>
                    <a:pt x="2262" y="130"/>
                  </a:moveTo>
                  <a:lnTo>
                    <a:pt x="2206" y="2"/>
                  </a:lnTo>
                  <a:lnTo>
                    <a:pt x="2188" y="2"/>
                  </a:lnTo>
                  <a:lnTo>
                    <a:pt x="2132" y="130"/>
                  </a:lnTo>
                  <a:lnTo>
                    <a:pt x="2152" y="130"/>
                  </a:lnTo>
                  <a:lnTo>
                    <a:pt x="2165" y="98"/>
                  </a:lnTo>
                  <a:lnTo>
                    <a:pt x="2228" y="98"/>
                  </a:lnTo>
                  <a:lnTo>
                    <a:pt x="2242" y="130"/>
                  </a:lnTo>
                  <a:lnTo>
                    <a:pt x="2262" y="130"/>
                  </a:lnTo>
                  <a:close/>
                  <a:moveTo>
                    <a:pt x="2222" y="83"/>
                  </a:moveTo>
                  <a:lnTo>
                    <a:pt x="2171" y="83"/>
                  </a:lnTo>
                  <a:lnTo>
                    <a:pt x="2197" y="20"/>
                  </a:lnTo>
                  <a:lnTo>
                    <a:pt x="2222" y="83"/>
                  </a:lnTo>
                  <a:close/>
                  <a:moveTo>
                    <a:pt x="2377" y="130"/>
                  </a:moveTo>
                  <a:lnTo>
                    <a:pt x="2377" y="114"/>
                  </a:lnTo>
                  <a:lnTo>
                    <a:pt x="2373" y="114"/>
                  </a:lnTo>
                  <a:lnTo>
                    <a:pt x="2371" y="114"/>
                  </a:lnTo>
                  <a:lnTo>
                    <a:pt x="2369" y="113"/>
                  </a:lnTo>
                  <a:lnTo>
                    <a:pt x="2368" y="112"/>
                  </a:lnTo>
                  <a:lnTo>
                    <a:pt x="2366" y="110"/>
                  </a:lnTo>
                  <a:lnTo>
                    <a:pt x="2362" y="104"/>
                  </a:lnTo>
                  <a:lnTo>
                    <a:pt x="2358" y="97"/>
                  </a:lnTo>
                  <a:lnTo>
                    <a:pt x="2353" y="87"/>
                  </a:lnTo>
                  <a:lnTo>
                    <a:pt x="2349" y="78"/>
                  </a:lnTo>
                  <a:lnTo>
                    <a:pt x="2344" y="72"/>
                  </a:lnTo>
                  <a:lnTo>
                    <a:pt x="2341" y="67"/>
                  </a:lnTo>
                  <a:lnTo>
                    <a:pt x="2347" y="64"/>
                  </a:lnTo>
                  <a:lnTo>
                    <a:pt x="2352" y="61"/>
                  </a:lnTo>
                  <a:lnTo>
                    <a:pt x="2356" y="58"/>
                  </a:lnTo>
                  <a:lnTo>
                    <a:pt x="2360" y="54"/>
                  </a:lnTo>
                  <a:lnTo>
                    <a:pt x="2362" y="50"/>
                  </a:lnTo>
                  <a:lnTo>
                    <a:pt x="2364" y="45"/>
                  </a:lnTo>
                  <a:lnTo>
                    <a:pt x="2366" y="40"/>
                  </a:lnTo>
                  <a:lnTo>
                    <a:pt x="2366" y="35"/>
                  </a:lnTo>
                  <a:lnTo>
                    <a:pt x="2366" y="32"/>
                  </a:lnTo>
                  <a:lnTo>
                    <a:pt x="2365" y="28"/>
                  </a:lnTo>
                  <a:lnTo>
                    <a:pt x="2363" y="22"/>
                  </a:lnTo>
                  <a:lnTo>
                    <a:pt x="2362" y="19"/>
                  </a:lnTo>
                  <a:lnTo>
                    <a:pt x="2360" y="16"/>
                  </a:lnTo>
                  <a:lnTo>
                    <a:pt x="2357" y="13"/>
                  </a:lnTo>
                  <a:lnTo>
                    <a:pt x="2355" y="11"/>
                  </a:lnTo>
                  <a:lnTo>
                    <a:pt x="2349" y="7"/>
                  </a:lnTo>
                  <a:lnTo>
                    <a:pt x="2346" y="6"/>
                  </a:lnTo>
                  <a:lnTo>
                    <a:pt x="2342" y="4"/>
                  </a:lnTo>
                  <a:lnTo>
                    <a:pt x="2335" y="3"/>
                  </a:lnTo>
                  <a:lnTo>
                    <a:pt x="2327" y="2"/>
                  </a:lnTo>
                  <a:lnTo>
                    <a:pt x="2284" y="2"/>
                  </a:lnTo>
                  <a:lnTo>
                    <a:pt x="2284" y="130"/>
                  </a:lnTo>
                  <a:lnTo>
                    <a:pt x="2303" y="130"/>
                  </a:lnTo>
                  <a:lnTo>
                    <a:pt x="2303" y="74"/>
                  </a:lnTo>
                  <a:lnTo>
                    <a:pt x="2317" y="74"/>
                  </a:lnTo>
                  <a:lnTo>
                    <a:pt x="2319" y="74"/>
                  </a:lnTo>
                  <a:lnTo>
                    <a:pt x="2322" y="75"/>
                  </a:lnTo>
                  <a:lnTo>
                    <a:pt x="2324" y="76"/>
                  </a:lnTo>
                  <a:lnTo>
                    <a:pt x="2326" y="77"/>
                  </a:lnTo>
                  <a:lnTo>
                    <a:pt x="2330" y="82"/>
                  </a:lnTo>
                  <a:lnTo>
                    <a:pt x="2334" y="88"/>
                  </a:lnTo>
                  <a:lnTo>
                    <a:pt x="2347" y="116"/>
                  </a:lnTo>
                  <a:lnTo>
                    <a:pt x="2350" y="119"/>
                  </a:lnTo>
                  <a:lnTo>
                    <a:pt x="2353" y="122"/>
                  </a:lnTo>
                  <a:lnTo>
                    <a:pt x="2356" y="125"/>
                  </a:lnTo>
                  <a:lnTo>
                    <a:pt x="2359" y="127"/>
                  </a:lnTo>
                  <a:lnTo>
                    <a:pt x="2362" y="128"/>
                  </a:lnTo>
                  <a:lnTo>
                    <a:pt x="2365" y="129"/>
                  </a:lnTo>
                  <a:lnTo>
                    <a:pt x="2369" y="130"/>
                  </a:lnTo>
                  <a:lnTo>
                    <a:pt x="2373" y="130"/>
                  </a:lnTo>
                  <a:lnTo>
                    <a:pt x="2377" y="130"/>
                  </a:lnTo>
                  <a:close/>
                  <a:moveTo>
                    <a:pt x="2346" y="35"/>
                  </a:moveTo>
                  <a:lnTo>
                    <a:pt x="2346" y="40"/>
                  </a:lnTo>
                  <a:lnTo>
                    <a:pt x="2345" y="44"/>
                  </a:lnTo>
                  <a:lnTo>
                    <a:pt x="2342" y="47"/>
                  </a:lnTo>
                  <a:lnTo>
                    <a:pt x="2339" y="51"/>
                  </a:lnTo>
                  <a:lnTo>
                    <a:pt x="2336" y="54"/>
                  </a:lnTo>
                  <a:lnTo>
                    <a:pt x="2332" y="56"/>
                  </a:lnTo>
                  <a:lnTo>
                    <a:pt x="2328" y="57"/>
                  </a:lnTo>
                  <a:lnTo>
                    <a:pt x="2323" y="57"/>
                  </a:lnTo>
                  <a:lnTo>
                    <a:pt x="2303" y="57"/>
                  </a:lnTo>
                  <a:lnTo>
                    <a:pt x="2303" y="18"/>
                  </a:lnTo>
                  <a:lnTo>
                    <a:pt x="2323" y="18"/>
                  </a:lnTo>
                  <a:lnTo>
                    <a:pt x="2328" y="18"/>
                  </a:lnTo>
                  <a:lnTo>
                    <a:pt x="2332" y="19"/>
                  </a:lnTo>
                  <a:lnTo>
                    <a:pt x="2336" y="21"/>
                  </a:lnTo>
                  <a:lnTo>
                    <a:pt x="2339" y="23"/>
                  </a:lnTo>
                  <a:lnTo>
                    <a:pt x="2342" y="25"/>
                  </a:lnTo>
                  <a:lnTo>
                    <a:pt x="2344" y="28"/>
                  </a:lnTo>
                  <a:lnTo>
                    <a:pt x="2346" y="32"/>
                  </a:lnTo>
                  <a:lnTo>
                    <a:pt x="2346" y="35"/>
                  </a:lnTo>
                  <a:close/>
                  <a:moveTo>
                    <a:pt x="2476" y="18"/>
                  </a:moveTo>
                  <a:lnTo>
                    <a:pt x="2476" y="2"/>
                  </a:lnTo>
                  <a:lnTo>
                    <a:pt x="2404" y="2"/>
                  </a:lnTo>
                  <a:lnTo>
                    <a:pt x="2404" y="130"/>
                  </a:lnTo>
                  <a:lnTo>
                    <a:pt x="2476" y="130"/>
                  </a:lnTo>
                  <a:lnTo>
                    <a:pt x="2476" y="114"/>
                  </a:lnTo>
                  <a:lnTo>
                    <a:pt x="2422" y="114"/>
                  </a:lnTo>
                  <a:lnTo>
                    <a:pt x="2422" y="72"/>
                  </a:lnTo>
                  <a:lnTo>
                    <a:pt x="2471" y="72"/>
                  </a:lnTo>
                  <a:lnTo>
                    <a:pt x="2471" y="55"/>
                  </a:lnTo>
                  <a:lnTo>
                    <a:pt x="2422" y="55"/>
                  </a:lnTo>
                  <a:lnTo>
                    <a:pt x="2422" y="18"/>
                  </a:lnTo>
                  <a:lnTo>
                    <a:pt x="2476" y="18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Freeform 3"/>
            <p:cNvSpPr/>
            <p:nvPr/>
          </p:nvSpPr>
          <p:spPr>
            <a:xfrm>
              <a:off x="1241280" y="3951360"/>
              <a:ext cx="2813040" cy="190440"/>
            </a:xfrm>
            <a:custGeom>
              <a:avLst/>
              <a:gdLst/>
              <a:ahLst/>
              <a:rect l="l" t="t" r="r" b="b"/>
              <a:pathLst>
                <a:path w="1885" h="133">
                  <a:moveTo>
                    <a:pt x="100" y="131"/>
                  </a:moveTo>
                  <a:lnTo>
                    <a:pt x="100" y="2"/>
                  </a:lnTo>
                  <a:lnTo>
                    <a:pt x="81" y="2"/>
                  </a:lnTo>
                  <a:lnTo>
                    <a:pt x="81" y="105"/>
                  </a:lnTo>
                  <a:lnTo>
                    <a:pt x="80" y="105"/>
                  </a:lnTo>
                  <a:lnTo>
                    <a:pt x="24" y="2"/>
                  </a:lnTo>
                  <a:lnTo>
                    <a:pt x="0" y="2"/>
                  </a:lnTo>
                  <a:lnTo>
                    <a:pt x="0" y="131"/>
                  </a:lnTo>
                  <a:lnTo>
                    <a:pt x="19" y="131"/>
                  </a:lnTo>
                  <a:lnTo>
                    <a:pt x="19" y="28"/>
                  </a:lnTo>
                  <a:lnTo>
                    <a:pt x="76" y="131"/>
                  </a:lnTo>
                  <a:lnTo>
                    <a:pt x="100" y="131"/>
                  </a:lnTo>
                  <a:close/>
                  <a:moveTo>
                    <a:pt x="250" y="131"/>
                  </a:moveTo>
                  <a:lnTo>
                    <a:pt x="194" y="2"/>
                  </a:lnTo>
                  <a:lnTo>
                    <a:pt x="176" y="2"/>
                  </a:lnTo>
                  <a:lnTo>
                    <a:pt x="120" y="131"/>
                  </a:lnTo>
                  <a:lnTo>
                    <a:pt x="140" y="131"/>
                  </a:lnTo>
                  <a:lnTo>
                    <a:pt x="153" y="98"/>
                  </a:lnTo>
                  <a:lnTo>
                    <a:pt x="216" y="98"/>
                  </a:lnTo>
                  <a:lnTo>
                    <a:pt x="230" y="131"/>
                  </a:lnTo>
                  <a:lnTo>
                    <a:pt x="250" y="131"/>
                  </a:lnTo>
                  <a:close/>
                  <a:moveTo>
                    <a:pt x="210" y="83"/>
                  </a:moveTo>
                  <a:lnTo>
                    <a:pt x="160" y="83"/>
                  </a:lnTo>
                  <a:lnTo>
                    <a:pt x="185" y="20"/>
                  </a:lnTo>
                  <a:lnTo>
                    <a:pt x="210" y="83"/>
                  </a:lnTo>
                  <a:close/>
                  <a:moveTo>
                    <a:pt x="342" y="18"/>
                  </a:moveTo>
                  <a:lnTo>
                    <a:pt x="342" y="2"/>
                  </a:lnTo>
                  <a:lnTo>
                    <a:pt x="245" y="2"/>
                  </a:lnTo>
                  <a:lnTo>
                    <a:pt x="245" y="18"/>
                  </a:lnTo>
                  <a:lnTo>
                    <a:pt x="284" y="18"/>
                  </a:lnTo>
                  <a:lnTo>
                    <a:pt x="284" y="131"/>
                  </a:lnTo>
                  <a:lnTo>
                    <a:pt x="303" y="131"/>
                  </a:lnTo>
                  <a:lnTo>
                    <a:pt x="303" y="18"/>
                  </a:lnTo>
                  <a:lnTo>
                    <a:pt x="342" y="18"/>
                  </a:lnTo>
                  <a:close/>
                  <a:moveTo>
                    <a:pt x="386" y="131"/>
                  </a:moveTo>
                  <a:lnTo>
                    <a:pt x="386" y="2"/>
                  </a:lnTo>
                  <a:lnTo>
                    <a:pt x="368" y="2"/>
                  </a:lnTo>
                  <a:lnTo>
                    <a:pt x="368" y="131"/>
                  </a:lnTo>
                  <a:lnTo>
                    <a:pt x="386" y="131"/>
                  </a:lnTo>
                  <a:close/>
                  <a:moveTo>
                    <a:pt x="538" y="67"/>
                  </a:moveTo>
                  <a:lnTo>
                    <a:pt x="537" y="60"/>
                  </a:lnTo>
                  <a:lnTo>
                    <a:pt x="537" y="53"/>
                  </a:lnTo>
                  <a:lnTo>
                    <a:pt x="535" y="46"/>
                  </a:lnTo>
                  <a:lnTo>
                    <a:pt x="534" y="40"/>
                  </a:lnTo>
                  <a:lnTo>
                    <a:pt x="531" y="35"/>
                  </a:lnTo>
                  <a:lnTo>
                    <a:pt x="529" y="29"/>
                  </a:lnTo>
                  <a:lnTo>
                    <a:pt x="526" y="24"/>
                  </a:lnTo>
                  <a:lnTo>
                    <a:pt x="522" y="19"/>
                  </a:lnTo>
                  <a:lnTo>
                    <a:pt x="518" y="15"/>
                  </a:lnTo>
                  <a:lnTo>
                    <a:pt x="513" y="11"/>
                  </a:lnTo>
                  <a:lnTo>
                    <a:pt x="508" y="8"/>
                  </a:lnTo>
                  <a:lnTo>
                    <a:pt x="502" y="5"/>
                  </a:lnTo>
                  <a:lnTo>
                    <a:pt x="496" y="3"/>
                  </a:lnTo>
                  <a:lnTo>
                    <a:pt x="490" y="1"/>
                  </a:lnTo>
                  <a:lnTo>
                    <a:pt x="483" y="0"/>
                  </a:lnTo>
                  <a:lnTo>
                    <a:pt x="476" y="0"/>
                  </a:lnTo>
                  <a:lnTo>
                    <a:pt x="469" y="0"/>
                  </a:lnTo>
                  <a:lnTo>
                    <a:pt x="462" y="1"/>
                  </a:lnTo>
                  <a:lnTo>
                    <a:pt x="456" y="3"/>
                  </a:lnTo>
                  <a:lnTo>
                    <a:pt x="450" y="5"/>
                  </a:lnTo>
                  <a:lnTo>
                    <a:pt x="444" y="8"/>
                  </a:lnTo>
                  <a:lnTo>
                    <a:pt x="439" y="11"/>
                  </a:lnTo>
                  <a:lnTo>
                    <a:pt x="435" y="15"/>
                  </a:lnTo>
                  <a:lnTo>
                    <a:pt x="430" y="19"/>
                  </a:lnTo>
                  <a:lnTo>
                    <a:pt x="427" y="24"/>
                  </a:lnTo>
                  <a:lnTo>
                    <a:pt x="423" y="29"/>
                  </a:lnTo>
                  <a:lnTo>
                    <a:pt x="421" y="35"/>
                  </a:lnTo>
                  <a:lnTo>
                    <a:pt x="419" y="40"/>
                  </a:lnTo>
                  <a:lnTo>
                    <a:pt x="417" y="46"/>
                  </a:lnTo>
                  <a:lnTo>
                    <a:pt x="416" y="53"/>
                  </a:lnTo>
                  <a:lnTo>
                    <a:pt x="415" y="60"/>
                  </a:lnTo>
                  <a:lnTo>
                    <a:pt x="415" y="67"/>
                  </a:lnTo>
                  <a:lnTo>
                    <a:pt x="415" y="74"/>
                  </a:lnTo>
                  <a:lnTo>
                    <a:pt x="416" y="80"/>
                  </a:lnTo>
                  <a:lnTo>
                    <a:pt x="417" y="87"/>
                  </a:lnTo>
                  <a:lnTo>
                    <a:pt x="419" y="93"/>
                  </a:lnTo>
                  <a:lnTo>
                    <a:pt x="421" y="99"/>
                  </a:lnTo>
                  <a:lnTo>
                    <a:pt x="423" y="104"/>
                  </a:lnTo>
                  <a:lnTo>
                    <a:pt x="427" y="109"/>
                  </a:lnTo>
                  <a:lnTo>
                    <a:pt x="430" y="114"/>
                  </a:lnTo>
                  <a:lnTo>
                    <a:pt x="435" y="118"/>
                  </a:lnTo>
                  <a:lnTo>
                    <a:pt x="439" y="122"/>
                  </a:lnTo>
                  <a:lnTo>
                    <a:pt x="444" y="126"/>
                  </a:lnTo>
                  <a:lnTo>
                    <a:pt x="450" y="128"/>
                  </a:lnTo>
                  <a:lnTo>
                    <a:pt x="456" y="130"/>
                  </a:lnTo>
                  <a:lnTo>
                    <a:pt x="462" y="132"/>
                  </a:lnTo>
                  <a:lnTo>
                    <a:pt x="469" y="133"/>
                  </a:lnTo>
                  <a:lnTo>
                    <a:pt x="476" y="133"/>
                  </a:lnTo>
                  <a:lnTo>
                    <a:pt x="483" y="133"/>
                  </a:lnTo>
                  <a:lnTo>
                    <a:pt x="490" y="132"/>
                  </a:lnTo>
                  <a:lnTo>
                    <a:pt x="496" y="130"/>
                  </a:lnTo>
                  <a:lnTo>
                    <a:pt x="502" y="128"/>
                  </a:lnTo>
                  <a:lnTo>
                    <a:pt x="508" y="126"/>
                  </a:lnTo>
                  <a:lnTo>
                    <a:pt x="513" y="122"/>
                  </a:lnTo>
                  <a:lnTo>
                    <a:pt x="518" y="118"/>
                  </a:lnTo>
                  <a:lnTo>
                    <a:pt x="522" y="114"/>
                  </a:lnTo>
                  <a:lnTo>
                    <a:pt x="526" y="109"/>
                  </a:lnTo>
                  <a:lnTo>
                    <a:pt x="529" y="104"/>
                  </a:lnTo>
                  <a:lnTo>
                    <a:pt x="531" y="98"/>
                  </a:lnTo>
                  <a:lnTo>
                    <a:pt x="534" y="93"/>
                  </a:lnTo>
                  <a:lnTo>
                    <a:pt x="535" y="87"/>
                  </a:lnTo>
                  <a:lnTo>
                    <a:pt x="537" y="80"/>
                  </a:lnTo>
                  <a:lnTo>
                    <a:pt x="537" y="74"/>
                  </a:lnTo>
                  <a:lnTo>
                    <a:pt x="538" y="67"/>
                  </a:lnTo>
                  <a:close/>
                  <a:moveTo>
                    <a:pt x="518" y="67"/>
                  </a:moveTo>
                  <a:lnTo>
                    <a:pt x="518" y="72"/>
                  </a:lnTo>
                  <a:lnTo>
                    <a:pt x="518" y="77"/>
                  </a:lnTo>
                  <a:lnTo>
                    <a:pt x="516" y="86"/>
                  </a:lnTo>
                  <a:lnTo>
                    <a:pt x="514" y="91"/>
                  </a:lnTo>
                  <a:lnTo>
                    <a:pt x="512" y="95"/>
                  </a:lnTo>
                  <a:lnTo>
                    <a:pt x="507" y="102"/>
                  </a:lnTo>
                  <a:lnTo>
                    <a:pt x="504" y="106"/>
                  </a:lnTo>
                  <a:lnTo>
                    <a:pt x="501" y="109"/>
                  </a:lnTo>
                  <a:lnTo>
                    <a:pt x="497" y="111"/>
                  </a:lnTo>
                  <a:lnTo>
                    <a:pt x="494" y="113"/>
                  </a:lnTo>
                  <a:lnTo>
                    <a:pt x="490" y="115"/>
                  </a:lnTo>
                  <a:lnTo>
                    <a:pt x="485" y="116"/>
                  </a:lnTo>
                  <a:lnTo>
                    <a:pt x="481" y="116"/>
                  </a:lnTo>
                  <a:lnTo>
                    <a:pt x="476" y="117"/>
                  </a:lnTo>
                  <a:lnTo>
                    <a:pt x="471" y="116"/>
                  </a:lnTo>
                  <a:lnTo>
                    <a:pt x="467" y="116"/>
                  </a:lnTo>
                  <a:lnTo>
                    <a:pt x="462" y="115"/>
                  </a:lnTo>
                  <a:lnTo>
                    <a:pt x="458" y="113"/>
                  </a:lnTo>
                  <a:lnTo>
                    <a:pt x="455" y="111"/>
                  </a:lnTo>
                  <a:lnTo>
                    <a:pt x="451" y="109"/>
                  </a:lnTo>
                  <a:lnTo>
                    <a:pt x="448" y="106"/>
                  </a:lnTo>
                  <a:lnTo>
                    <a:pt x="445" y="102"/>
                  </a:lnTo>
                  <a:lnTo>
                    <a:pt x="442" y="99"/>
                  </a:lnTo>
                  <a:lnTo>
                    <a:pt x="440" y="95"/>
                  </a:lnTo>
                  <a:lnTo>
                    <a:pt x="438" y="91"/>
                  </a:lnTo>
                  <a:lnTo>
                    <a:pt x="436" y="86"/>
                  </a:lnTo>
                  <a:lnTo>
                    <a:pt x="435" y="82"/>
                  </a:lnTo>
                  <a:lnTo>
                    <a:pt x="434" y="77"/>
                  </a:lnTo>
                  <a:lnTo>
                    <a:pt x="434" y="72"/>
                  </a:lnTo>
                  <a:lnTo>
                    <a:pt x="434" y="67"/>
                  </a:lnTo>
                  <a:lnTo>
                    <a:pt x="434" y="61"/>
                  </a:lnTo>
                  <a:lnTo>
                    <a:pt x="434" y="56"/>
                  </a:lnTo>
                  <a:lnTo>
                    <a:pt x="436" y="47"/>
                  </a:lnTo>
                  <a:lnTo>
                    <a:pt x="438" y="43"/>
                  </a:lnTo>
                  <a:lnTo>
                    <a:pt x="440" y="38"/>
                  </a:lnTo>
                  <a:lnTo>
                    <a:pt x="445" y="31"/>
                  </a:lnTo>
                  <a:lnTo>
                    <a:pt x="448" y="28"/>
                  </a:lnTo>
                  <a:lnTo>
                    <a:pt x="451" y="25"/>
                  </a:lnTo>
                  <a:lnTo>
                    <a:pt x="455" y="22"/>
                  </a:lnTo>
                  <a:lnTo>
                    <a:pt x="459" y="20"/>
                  </a:lnTo>
                  <a:lnTo>
                    <a:pt x="463" y="18"/>
                  </a:lnTo>
                  <a:lnTo>
                    <a:pt x="467" y="17"/>
                  </a:lnTo>
                  <a:lnTo>
                    <a:pt x="471" y="17"/>
                  </a:lnTo>
                  <a:lnTo>
                    <a:pt x="476" y="16"/>
                  </a:lnTo>
                  <a:lnTo>
                    <a:pt x="481" y="17"/>
                  </a:lnTo>
                  <a:lnTo>
                    <a:pt x="485" y="17"/>
                  </a:lnTo>
                  <a:lnTo>
                    <a:pt x="490" y="18"/>
                  </a:lnTo>
                  <a:lnTo>
                    <a:pt x="494" y="20"/>
                  </a:lnTo>
                  <a:lnTo>
                    <a:pt x="497" y="22"/>
                  </a:lnTo>
                  <a:lnTo>
                    <a:pt x="501" y="25"/>
                  </a:lnTo>
                  <a:lnTo>
                    <a:pt x="504" y="28"/>
                  </a:lnTo>
                  <a:lnTo>
                    <a:pt x="507" y="31"/>
                  </a:lnTo>
                  <a:lnTo>
                    <a:pt x="510" y="35"/>
                  </a:lnTo>
                  <a:lnTo>
                    <a:pt x="512" y="38"/>
                  </a:lnTo>
                  <a:lnTo>
                    <a:pt x="514" y="43"/>
                  </a:lnTo>
                  <a:lnTo>
                    <a:pt x="516" y="47"/>
                  </a:lnTo>
                  <a:lnTo>
                    <a:pt x="517" y="51"/>
                  </a:lnTo>
                  <a:lnTo>
                    <a:pt x="518" y="56"/>
                  </a:lnTo>
                  <a:lnTo>
                    <a:pt x="518" y="61"/>
                  </a:lnTo>
                  <a:lnTo>
                    <a:pt x="518" y="67"/>
                  </a:lnTo>
                  <a:close/>
                  <a:moveTo>
                    <a:pt x="666" y="131"/>
                  </a:moveTo>
                  <a:lnTo>
                    <a:pt x="666" y="2"/>
                  </a:lnTo>
                  <a:lnTo>
                    <a:pt x="647" y="2"/>
                  </a:lnTo>
                  <a:lnTo>
                    <a:pt x="647" y="105"/>
                  </a:lnTo>
                  <a:lnTo>
                    <a:pt x="646" y="105"/>
                  </a:lnTo>
                  <a:lnTo>
                    <a:pt x="591" y="2"/>
                  </a:lnTo>
                  <a:lnTo>
                    <a:pt x="566" y="2"/>
                  </a:lnTo>
                  <a:lnTo>
                    <a:pt x="566" y="131"/>
                  </a:lnTo>
                  <a:lnTo>
                    <a:pt x="585" y="131"/>
                  </a:lnTo>
                  <a:lnTo>
                    <a:pt x="585" y="28"/>
                  </a:lnTo>
                  <a:lnTo>
                    <a:pt x="586" y="28"/>
                  </a:lnTo>
                  <a:lnTo>
                    <a:pt x="642" y="131"/>
                  </a:lnTo>
                  <a:lnTo>
                    <a:pt x="666" y="131"/>
                  </a:lnTo>
                  <a:close/>
                  <a:moveTo>
                    <a:pt x="817" y="131"/>
                  </a:moveTo>
                  <a:lnTo>
                    <a:pt x="761" y="2"/>
                  </a:lnTo>
                  <a:lnTo>
                    <a:pt x="743" y="2"/>
                  </a:lnTo>
                  <a:lnTo>
                    <a:pt x="686" y="131"/>
                  </a:lnTo>
                  <a:lnTo>
                    <a:pt x="706" y="131"/>
                  </a:lnTo>
                  <a:lnTo>
                    <a:pt x="720" y="98"/>
                  </a:lnTo>
                  <a:lnTo>
                    <a:pt x="783" y="98"/>
                  </a:lnTo>
                  <a:lnTo>
                    <a:pt x="797" y="131"/>
                  </a:lnTo>
                  <a:lnTo>
                    <a:pt x="817" y="131"/>
                  </a:lnTo>
                  <a:close/>
                  <a:moveTo>
                    <a:pt x="778" y="83"/>
                  </a:moveTo>
                  <a:lnTo>
                    <a:pt x="726" y="83"/>
                  </a:lnTo>
                  <a:lnTo>
                    <a:pt x="752" y="20"/>
                  </a:lnTo>
                  <a:lnTo>
                    <a:pt x="778" y="83"/>
                  </a:lnTo>
                  <a:close/>
                  <a:moveTo>
                    <a:pt x="909" y="131"/>
                  </a:moveTo>
                  <a:lnTo>
                    <a:pt x="909" y="114"/>
                  </a:lnTo>
                  <a:lnTo>
                    <a:pt x="856" y="114"/>
                  </a:lnTo>
                  <a:lnTo>
                    <a:pt x="856" y="2"/>
                  </a:lnTo>
                  <a:lnTo>
                    <a:pt x="837" y="2"/>
                  </a:lnTo>
                  <a:lnTo>
                    <a:pt x="837" y="131"/>
                  </a:lnTo>
                  <a:lnTo>
                    <a:pt x="909" y="131"/>
                  </a:lnTo>
                  <a:close/>
                  <a:moveTo>
                    <a:pt x="1008" y="131"/>
                  </a:moveTo>
                  <a:lnTo>
                    <a:pt x="1008" y="2"/>
                  </a:lnTo>
                  <a:lnTo>
                    <a:pt x="990" y="2"/>
                  </a:lnTo>
                  <a:lnTo>
                    <a:pt x="990" y="131"/>
                  </a:lnTo>
                  <a:lnTo>
                    <a:pt x="1008" y="131"/>
                  </a:lnTo>
                  <a:close/>
                  <a:moveTo>
                    <a:pt x="1148" y="131"/>
                  </a:moveTo>
                  <a:lnTo>
                    <a:pt x="1148" y="2"/>
                  </a:lnTo>
                  <a:lnTo>
                    <a:pt x="1129" y="2"/>
                  </a:lnTo>
                  <a:lnTo>
                    <a:pt x="1129" y="105"/>
                  </a:lnTo>
                  <a:lnTo>
                    <a:pt x="1128" y="105"/>
                  </a:lnTo>
                  <a:lnTo>
                    <a:pt x="1072" y="2"/>
                  </a:lnTo>
                  <a:lnTo>
                    <a:pt x="1048" y="2"/>
                  </a:lnTo>
                  <a:lnTo>
                    <a:pt x="1048" y="131"/>
                  </a:lnTo>
                  <a:lnTo>
                    <a:pt x="1067" y="131"/>
                  </a:lnTo>
                  <a:lnTo>
                    <a:pt x="1067" y="28"/>
                  </a:lnTo>
                  <a:lnTo>
                    <a:pt x="1068" y="28"/>
                  </a:lnTo>
                  <a:lnTo>
                    <a:pt x="1124" y="131"/>
                  </a:lnTo>
                  <a:lnTo>
                    <a:pt x="1148" y="131"/>
                  </a:lnTo>
                  <a:close/>
                  <a:moveTo>
                    <a:pt x="1255" y="96"/>
                  </a:moveTo>
                  <a:lnTo>
                    <a:pt x="1254" y="92"/>
                  </a:lnTo>
                  <a:lnTo>
                    <a:pt x="1254" y="89"/>
                  </a:lnTo>
                  <a:lnTo>
                    <a:pt x="1254" y="87"/>
                  </a:lnTo>
                  <a:lnTo>
                    <a:pt x="1253" y="83"/>
                  </a:lnTo>
                  <a:lnTo>
                    <a:pt x="1251" y="79"/>
                  </a:lnTo>
                  <a:lnTo>
                    <a:pt x="1249" y="76"/>
                  </a:lnTo>
                  <a:lnTo>
                    <a:pt x="1247" y="72"/>
                  </a:lnTo>
                  <a:lnTo>
                    <a:pt x="1244" y="69"/>
                  </a:lnTo>
                  <a:lnTo>
                    <a:pt x="1240" y="66"/>
                  </a:lnTo>
                  <a:lnTo>
                    <a:pt x="1237" y="63"/>
                  </a:lnTo>
                  <a:lnTo>
                    <a:pt x="1231" y="60"/>
                  </a:lnTo>
                  <a:lnTo>
                    <a:pt x="1223" y="55"/>
                  </a:lnTo>
                  <a:lnTo>
                    <a:pt x="1214" y="50"/>
                  </a:lnTo>
                  <a:lnTo>
                    <a:pt x="1207" y="46"/>
                  </a:lnTo>
                  <a:lnTo>
                    <a:pt x="1205" y="44"/>
                  </a:lnTo>
                  <a:lnTo>
                    <a:pt x="1203" y="42"/>
                  </a:lnTo>
                  <a:lnTo>
                    <a:pt x="1200" y="38"/>
                  </a:lnTo>
                  <a:lnTo>
                    <a:pt x="1199" y="36"/>
                  </a:lnTo>
                  <a:lnTo>
                    <a:pt x="1199" y="35"/>
                  </a:lnTo>
                  <a:lnTo>
                    <a:pt x="1199" y="31"/>
                  </a:lnTo>
                  <a:lnTo>
                    <a:pt x="1201" y="28"/>
                  </a:lnTo>
                  <a:lnTo>
                    <a:pt x="1203" y="25"/>
                  </a:lnTo>
                  <a:lnTo>
                    <a:pt x="1205" y="22"/>
                  </a:lnTo>
                  <a:lnTo>
                    <a:pt x="1209" y="19"/>
                  </a:lnTo>
                  <a:lnTo>
                    <a:pt x="1212" y="17"/>
                  </a:lnTo>
                  <a:lnTo>
                    <a:pt x="1217" y="16"/>
                  </a:lnTo>
                  <a:lnTo>
                    <a:pt x="1221" y="16"/>
                  </a:lnTo>
                  <a:lnTo>
                    <a:pt x="1225" y="16"/>
                  </a:lnTo>
                  <a:lnTo>
                    <a:pt x="1231" y="18"/>
                  </a:lnTo>
                  <a:lnTo>
                    <a:pt x="1247" y="22"/>
                  </a:lnTo>
                  <a:lnTo>
                    <a:pt x="1250" y="4"/>
                  </a:lnTo>
                  <a:lnTo>
                    <a:pt x="1243" y="2"/>
                  </a:lnTo>
                  <a:lnTo>
                    <a:pt x="1235" y="1"/>
                  </a:lnTo>
                  <a:lnTo>
                    <a:pt x="1228" y="0"/>
                  </a:lnTo>
                  <a:lnTo>
                    <a:pt x="1221" y="0"/>
                  </a:lnTo>
                  <a:lnTo>
                    <a:pt x="1213" y="0"/>
                  </a:lnTo>
                  <a:lnTo>
                    <a:pt x="1210" y="1"/>
                  </a:lnTo>
                  <a:lnTo>
                    <a:pt x="1206" y="2"/>
                  </a:lnTo>
                  <a:lnTo>
                    <a:pt x="1203" y="3"/>
                  </a:lnTo>
                  <a:lnTo>
                    <a:pt x="1199" y="4"/>
                  </a:lnTo>
                  <a:lnTo>
                    <a:pt x="1196" y="6"/>
                  </a:lnTo>
                  <a:lnTo>
                    <a:pt x="1193" y="8"/>
                  </a:lnTo>
                  <a:lnTo>
                    <a:pt x="1190" y="11"/>
                  </a:lnTo>
                  <a:lnTo>
                    <a:pt x="1187" y="13"/>
                  </a:lnTo>
                  <a:lnTo>
                    <a:pt x="1185" y="16"/>
                  </a:lnTo>
                  <a:lnTo>
                    <a:pt x="1183" y="20"/>
                  </a:lnTo>
                  <a:lnTo>
                    <a:pt x="1182" y="23"/>
                  </a:lnTo>
                  <a:lnTo>
                    <a:pt x="1181" y="27"/>
                  </a:lnTo>
                  <a:lnTo>
                    <a:pt x="1180" y="30"/>
                  </a:lnTo>
                  <a:lnTo>
                    <a:pt x="1180" y="35"/>
                  </a:lnTo>
                  <a:lnTo>
                    <a:pt x="1180" y="39"/>
                  </a:lnTo>
                  <a:lnTo>
                    <a:pt x="1181" y="43"/>
                  </a:lnTo>
                  <a:lnTo>
                    <a:pt x="1183" y="48"/>
                  </a:lnTo>
                  <a:lnTo>
                    <a:pt x="1186" y="52"/>
                  </a:lnTo>
                  <a:lnTo>
                    <a:pt x="1189" y="56"/>
                  </a:lnTo>
                  <a:lnTo>
                    <a:pt x="1193" y="59"/>
                  </a:lnTo>
                  <a:lnTo>
                    <a:pt x="1198" y="63"/>
                  </a:lnTo>
                  <a:lnTo>
                    <a:pt x="1204" y="66"/>
                  </a:lnTo>
                  <a:lnTo>
                    <a:pt x="1218" y="73"/>
                  </a:lnTo>
                  <a:lnTo>
                    <a:pt x="1225" y="78"/>
                  </a:lnTo>
                  <a:lnTo>
                    <a:pt x="1228" y="80"/>
                  </a:lnTo>
                  <a:lnTo>
                    <a:pt x="1230" y="82"/>
                  </a:lnTo>
                  <a:lnTo>
                    <a:pt x="1232" y="86"/>
                  </a:lnTo>
                  <a:lnTo>
                    <a:pt x="1234" y="89"/>
                  </a:lnTo>
                  <a:lnTo>
                    <a:pt x="1235" y="92"/>
                  </a:lnTo>
                  <a:lnTo>
                    <a:pt x="1235" y="96"/>
                  </a:lnTo>
                  <a:lnTo>
                    <a:pt x="1235" y="100"/>
                  </a:lnTo>
                  <a:lnTo>
                    <a:pt x="1234" y="104"/>
                  </a:lnTo>
                  <a:lnTo>
                    <a:pt x="1231" y="108"/>
                  </a:lnTo>
                  <a:lnTo>
                    <a:pt x="1230" y="109"/>
                  </a:lnTo>
                  <a:lnTo>
                    <a:pt x="1228" y="111"/>
                  </a:lnTo>
                  <a:lnTo>
                    <a:pt x="1224" y="113"/>
                  </a:lnTo>
                  <a:lnTo>
                    <a:pt x="1219" y="115"/>
                  </a:lnTo>
                  <a:lnTo>
                    <a:pt x="1214" y="116"/>
                  </a:lnTo>
                  <a:lnTo>
                    <a:pt x="1208" y="117"/>
                  </a:lnTo>
                  <a:lnTo>
                    <a:pt x="1201" y="116"/>
                  </a:lnTo>
                  <a:lnTo>
                    <a:pt x="1195" y="115"/>
                  </a:lnTo>
                  <a:lnTo>
                    <a:pt x="1189" y="113"/>
                  </a:lnTo>
                  <a:lnTo>
                    <a:pt x="1184" y="110"/>
                  </a:lnTo>
                  <a:lnTo>
                    <a:pt x="1181" y="128"/>
                  </a:lnTo>
                  <a:lnTo>
                    <a:pt x="1190" y="131"/>
                  </a:lnTo>
                  <a:lnTo>
                    <a:pt x="1195" y="132"/>
                  </a:lnTo>
                  <a:lnTo>
                    <a:pt x="1200" y="133"/>
                  </a:lnTo>
                  <a:lnTo>
                    <a:pt x="1208" y="133"/>
                  </a:lnTo>
                  <a:lnTo>
                    <a:pt x="1217" y="133"/>
                  </a:lnTo>
                  <a:lnTo>
                    <a:pt x="1225" y="131"/>
                  </a:lnTo>
                  <a:lnTo>
                    <a:pt x="1232" y="129"/>
                  </a:lnTo>
                  <a:lnTo>
                    <a:pt x="1239" y="125"/>
                  </a:lnTo>
                  <a:lnTo>
                    <a:pt x="1243" y="122"/>
                  </a:lnTo>
                  <a:lnTo>
                    <a:pt x="1246" y="119"/>
                  </a:lnTo>
                  <a:lnTo>
                    <a:pt x="1249" y="116"/>
                  </a:lnTo>
                  <a:lnTo>
                    <a:pt x="1251" y="113"/>
                  </a:lnTo>
                  <a:lnTo>
                    <a:pt x="1252" y="109"/>
                  </a:lnTo>
                  <a:lnTo>
                    <a:pt x="1254" y="105"/>
                  </a:lnTo>
                  <a:lnTo>
                    <a:pt x="1254" y="101"/>
                  </a:lnTo>
                  <a:lnTo>
                    <a:pt x="1255" y="96"/>
                  </a:lnTo>
                  <a:close/>
                  <a:moveTo>
                    <a:pt x="1370" y="18"/>
                  </a:moveTo>
                  <a:lnTo>
                    <a:pt x="1370" y="2"/>
                  </a:lnTo>
                  <a:lnTo>
                    <a:pt x="1273" y="2"/>
                  </a:lnTo>
                  <a:lnTo>
                    <a:pt x="1273" y="18"/>
                  </a:lnTo>
                  <a:lnTo>
                    <a:pt x="1312" y="18"/>
                  </a:lnTo>
                  <a:lnTo>
                    <a:pt x="1312" y="131"/>
                  </a:lnTo>
                  <a:lnTo>
                    <a:pt x="1331" y="131"/>
                  </a:lnTo>
                  <a:lnTo>
                    <a:pt x="1331" y="18"/>
                  </a:lnTo>
                  <a:lnTo>
                    <a:pt x="1370" y="18"/>
                  </a:lnTo>
                  <a:close/>
                  <a:moveTo>
                    <a:pt x="1414" y="131"/>
                  </a:moveTo>
                  <a:lnTo>
                    <a:pt x="1414" y="2"/>
                  </a:lnTo>
                  <a:lnTo>
                    <a:pt x="1395" y="2"/>
                  </a:lnTo>
                  <a:lnTo>
                    <a:pt x="1395" y="131"/>
                  </a:lnTo>
                  <a:lnTo>
                    <a:pt x="1414" y="131"/>
                  </a:lnTo>
                  <a:close/>
                  <a:moveTo>
                    <a:pt x="1537" y="18"/>
                  </a:moveTo>
                  <a:lnTo>
                    <a:pt x="1537" y="2"/>
                  </a:lnTo>
                  <a:lnTo>
                    <a:pt x="1440" y="2"/>
                  </a:lnTo>
                  <a:lnTo>
                    <a:pt x="1440" y="18"/>
                  </a:lnTo>
                  <a:lnTo>
                    <a:pt x="1479" y="18"/>
                  </a:lnTo>
                  <a:lnTo>
                    <a:pt x="1479" y="131"/>
                  </a:lnTo>
                  <a:lnTo>
                    <a:pt x="1498" y="131"/>
                  </a:lnTo>
                  <a:lnTo>
                    <a:pt x="1498" y="18"/>
                  </a:lnTo>
                  <a:lnTo>
                    <a:pt x="1537" y="18"/>
                  </a:lnTo>
                  <a:close/>
                  <a:moveTo>
                    <a:pt x="1663" y="77"/>
                  </a:moveTo>
                  <a:lnTo>
                    <a:pt x="1663" y="2"/>
                  </a:lnTo>
                  <a:lnTo>
                    <a:pt x="1644" y="2"/>
                  </a:lnTo>
                  <a:lnTo>
                    <a:pt x="1644" y="81"/>
                  </a:lnTo>
                  <a:lnTo>
                    <a:pt x="1643" y="88"/>
                  </a:lnTo>
                  <a:lnTo>
                    <a:pt x="1643" y="92"/>
                  </a:lnTo>
                  <a:lnTo>
                    <a:pt x="1642" y="95"/>
                  </a:lnTo>
                  <a:lnTo>
                    <a:pt x="1641" y="98"/>
                  </a:lnTo>
                  <a:lnTo>
                    <a:pt x="1639" y="101"/>
                  </a:lnTo>
                  <a:lnTo>
                    <a:pt x="1636" y="106"/>
                  </a:lnTo>
                  <a:lnTo>
                    <a:pt x="1634" y="109"/>
                  </a:lnTo>
                  <a:lnTo>
                    <a:pt x="1632" y="111"/>
                  </a:lnTo>
                  <a:lnTo>
                    <a:pt x="1626" y="114"/>
                  </a:lnTo>
                  <a:lnTo>
                    <a:pt x="1620" y="116"/>
                  </a:lnTo>
                  <a:lnTo>
                    <a:pt x="1613" y="117"/>
                  </a:lnTo>
                  <a:lnTo>
                    <a:pt x="1606" y="116"/>
                  </a:lnTo>
                  <a:lnTo>
                    <a:pt x="1602" y="115"/>
                  </a:lnTo>
                  <a:lnTo>
                    <a:pt x="1599" y="114"/>
                  </a:lnTo>
                  <a:lnTo>
                    <a:pt x="1596" y="113"/>
                  </a:lnTo>
                  <a:lnTo>
                    <a:pt x="1594" y="111"/>
                  </a:lnTo>
                  <a:lnTo>
                    <a:pt x="1591" y="109"/>
                  </a:lnTo>
                  <a:lnTo>
                    <a:pt x="1589" y="106"/>
                  </a:lnTo>
                  <a:lnTo>
                    <a:pt x="1586" y="101"/>
                  </a:lnTo>
                  <a:lnTo>
                    <a:pt x="1583" y="95"/>
                  </a:lnTo>
                  <a:lnTo>
                    <a:pt x="1582" y="88"/>
                  </a:lnTo>
                  <a:lnTo>
                    <a:pt x="1582" y="81"/>
                  </a:lnTo>
                  <a:lnTo>
                    <a:pt x="1582" y="2"/>
                  </a:lnTo>
                  <a:lnTo>
                    <a:pt x="1563" y="2"/>
                  </a:lnTo>
                  <a:lnTo>
                    <a:pt x="1563" y="77"/>
                  </a:lnTo>
                  <a:lnTo>
                    <a:pt x="1563" y="83"/>
                  </a:lnTo>
                  <a:lnTo>
                    <a:pt x="1564" y="89"/>
                  </a:lnTo>
                  <a:lnTo>
                    <a:pt x="1566" y="99"/>
                  </a:lnTo>
                  <a:lnTo>
                    <a:pt x="1567" y="104"/>
                  </a:lnTo>
                  <a:lnTo>
                    <a:pt x="1569" y="108"/>
                  </a:lnTo>
                  <a:lnTo>
                    <a:pt x="1571" y="112"/>
                  </a:lnTo>
                  <a:lnTo>
                    <a:pt x="1574" y="116"/>
                  </a:lnTo>
                  <a:lnTo>
                    <a:pt x="1577" y="120"/>
                  </a:lnTo>
                  <a:lnTo>
                    <a:pt x="1581" y="123"/>
                  </a:lnTo>
                  <a:lnTo>
                    <a:pt x="1585" y="126"/>
                  </a:lnTo>
                  <a:lnTo>
                    <a:pt x="1590" y="129"/>
                  </a:lnTo>
                  <a:lnTo>
                    <a:pt x="1595" y="131"/>
                  </a:lnTo>
                  <a:lnTo>
                    <a:pt x="1601" y="132"/>
                  </a:lnTo>
                  <a:lnTo>
                    <a:pt x="1606" y="133"/>
                  </a:lnTo>
                  <a:lnTo>
                    <a:pt x="1613" y="133"/>
                  </a:lnTo>
                  <a:lnTo>
                    <a:pt x="1619" y="133"/>
                  </a:lnTo>
                  <a:lnTo>
                    <a:pt x="1625" y="132"/>
                  </a:lnTo>
                  <a:lnTo>
                    <a:pt x="1630" y="131"/>
                  </a:lnTo>
                  <a:lnTo>
                    <a:pt x="1635" y="129"/>
                  </a:lnTo>
                  <a:lnTo>
                    <a:pt x="1640" y="126"/>
                  </a:lnTo>
                  <a:lnTo>
                    <a:pt x="1644" y="123"/>
                  </a:lnTo>
                  <a:lnTo>
                    <a:pt x="1648" y="120"/>
                  </a:lnTo>
                  <a:lnTo>
                    <a:pt x="1652" y="116"/>
                  </a:lnTo>
                  <a:lnTo>
                    <a:pt x="1654" y="112"/>
                  </a:lnTo>
                  <a:lnTo>
                    <a:pt x="1656" y="108"/>
                  </a:lnTo>
                  <a:lnTo>
                    <a:pt x="1658" y="104"/>
                  </a:lnTo>
                  <a:lnTo>
                    <a:pt x="1660" y="99"/>
                  </a:lnTo>
                  <a:lnTo>
                    <a:pt x="1661" y="94"/>
                  </a:lnTo>
                  <a:lnTo>
                    <a:pt x="1662" y="89"/>
                  </a:lnTo>
                  <a:lnTo>
                    <a:pt x="1662" y="83"/>
                  </a:lnTo>
                  <a:lnTo>
                    <a:pt x="1663" y="77"/>
                  </a:lnTo>
                  <a:close/>
                  <a:moveTo>
                    <a:pt x="1786" y="18"/>
                  </a:moveTo>
                  <a:lnTo>
                    <a:pt x="1786" y="2"/>
                  </a:lnTo>
                  <a:lnTo>
                    <a:pt x="1689" y="2"/>
                  </a:lnTo>
                  <a:lnTo>
                    <a:pt x="1689" y="18"/>
                  </a:lnTo>
                  <a:lnTo>
                    <a:pt x="1728" y="18"/>
                  </a:lnTo>
                  <a:lnTo>
                    <a:pt x="1728" y="131"/>
                  </a:lnTo>
                  <a:lnTo>
                    <a:pt x="1747" y="131"/>
                  </a:lnTo>
                  <a:lnTo>
                    <a:pt x="1747" y="18"/>
                  </a:lnTo>
                  <a:lnTo>
                    <a:pt x="1786" y="18"/>
                  </a:lnTo>
                  <a:close/>
                  <a:moveTo>
                    <a:pt x="1885" y="18"/>
                  </a:moveTo>
                  <a:lnTo>
                    <a:pt x="1885" y="2"/>
                  </a:lnTo>
                  <a:lnTo>
                    <a:pt x="1813" y="2"/>
                  </a:lnTo>
                  <a:lnTo>
                    <a:pt x="1813" y="131"/>
                  </a:lnTo>
                  <a:lnTo>
                    <a:pt x="1885" y="131"/>
                  </a:lnTo>
                  <a:lnTo>
                    <a:pt x="1885" y="114"/>
                  </a:lnTo>
                  <a:lnTo>
                    <a:pt x="1831" y="114"/>
                  </a:lnTo>
                  <a:lnTo>
                    <a:pt x="1831" y="72"/>
                  </a:lnTo>
                  <a:lnTo>
                    <a:pt x="1880" y="72"/>
                  </a:lnTo>
                  <a:lnTo>
                    <a:pt x="1880" y="56"/>
                  </a:lnTo>
                  <a:lnTo>
                    <a:pt x="1831" y="56"/>
                  </a:lnTo>
                  <a:lnTo>
                    <a:pt x="1831" y="18"/>
                  </a:lnTo>
                  <a:lnTo>
                    <a:pt x="1885" y="18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" name="Rectangle 4"/>
          <p:cNvSpPr/>
          <p:nvPr/>
        </p:nvSpPr>
        <p:spPr>
          <a:xfrm>
            <a:off x="0" y="4581360"/>
            <a:ext cx="9144000" cy="227664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4579560"/>
            <a:ext cx="81993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900000" y="6237360"/>
            <a:ext cx="748836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2532240" y="568440"/>
            <a:ext cx="3668400" cy="29494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"/>
          <p:cNvSpPr/>
          <p:nvPr/>
        </p:nvSpPr>
        <p:spPr>
          <a:xfrm>
            <a:off x="468360" y="4581360"/>
            <a:ext cx="82072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i-FI" sz="3400" spc="-1" strike="noStrike">
                <a:solidFill>
                  <a:srgbClr val="ffffff"/>
                </a:solidFill>
                <a:latin typeface="Arial"/>
              </a:rPr>
              <a:t>Avoin arviointi ja </a:t>
            </a:r>
            <a:br>
              <a:rPr sz="3400"/>
            </a:br>
            <a:r>
              <a:rPr b="1" lang="fi-FI" sz="3400" spc="-1" strike="noStrike">
                <a:solidFill>
                  <a:srgbClr val="ffffff"/>
                </a:solidFill>
                <a:latin typeface="Arial"/>
              </a:rPr>
              <a:t>avoin päätöksentekokäytäntö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1332000" y="5877000"/>
            <a:ext cx="640080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2600" spc="-1" strike="noStrike">
                <a:solidFill>
                  <a:srgbClr val="ffffff"/>
                </a:solidFill>
                <a:latin typeface="Arial"/>
              </a:rPr>
              <a:t>Jouni Tuomisto, Mikko Pohjol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2600" spc="-1" strike="noStrike">
                <a:solidFill>
                  <a:srgbClr val="ffffff"/>
                </a:solidFill>
                <a:latin typeface="Arial"/>
              </a:rPr>
              <a:t>THL, Nordem O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"/>
          <p:cNvSpPr/>
          <p:nvPr/>
        </p:nvSpPr>
        <p:spPr>
          <a:xfrm>
            <a:off x="468360" y="260280"/>
            <a:ext cx="820404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Miten terveysvaikutukset huomioidaan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2"/>
          <p:cNvSpPr/>
          <p:nvPr/>
        </p:nvSpPr>
        <p:spPr>
          <a:xfrm>
            <a:off x="457200" y="1484280"/>
            <a:ext cx="82152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Vaikutusarviointi päätösvalmistelun tuken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IVA, TVA, SVA, SOVA, YVA, 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Uusi kokonaisvaltainen lähestymistapa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52480" indent="-4572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Avoin arviointi  ohjeistaa arviointikäytäntöj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2440" indent="-457200">
              <a:lnSpc>
                <a:spcPct val="85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Aiheena periaatteessa mikä tahans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2480" indent="-4572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Päätösvalmistelun seuranta ja ohja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"/>
          <p:cNvSpPr/>
          <p:nvPr/>
        </p:nvSpPr>
        <p:spPr>
          <a:xfrm>
            <a:off x="468360" y="260280"/>
            <a:ext cx="820404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Mitä on avoin arviointi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457200" y="1484280"/>
            <a:ext cx="8215200" cy="46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uotetaan tietyssä päätöksessä tarvittavaa tietoa avoimin työkalui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uka tahansa saa osallistua työskentelyyn (päättäjät, asiantuntijat, sidosryhmät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oimintaa ohjaavat säännöt (keskustelusäännöt, tietorakenteet, syy-seuraussuhteet, …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uloksena tieteelliseen tietoon ja arvoihin perustuvia suosituksia päättäjill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äypä päätös –suositus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Esimerkkinä Rauma, Por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"/>
          <p:cNvSpPr/>
          <p:nvPr/>
        </p:nvSpPr>
        <p:spPr>
          <a:xfrm>
            <a:off x="468360" y="260280"/>
            <a:ext cx="820404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Rauman satamavaihtoehdo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0" y="1440"/>
            <a:ext cx="7199280" cy="68565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"/>
          <p:cNvSpPr/>
          <p:nvPr/>
        </p:nvSpPr>
        <p:spPr>
          <a:xfrm>
            <a:off x="6156360" y="1484280"/>
            <a:ext cx="2771640" cy="3024360"/>
          </a:xfrm>
          <a:prstGeom prst="rect">
            <a:avLst/>
          </a:prstGeom>
          <a:solidFill>
            <a:srgbClr val="ffffff">
              <a:alpha val="56000"/>
            </a:srgbClr>
          </a:solidFill>
          <a:ln cap="sq" w="22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voitteellisuus: Vastataan siihen kysymykseen, joka on päätökseteon kannalta tärkeää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"/>
          <p:cNvSpPr/>
          <p:nvPr/>
        </p:nvSpPr>
        <p:spPr>
          <a:xfrm>
            <a:off x="468360" y="260280"/>
            <a:ext cx="8204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Porin kuntapilottisuunnitelm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457200" y="1484280"/>
            <a:ext cx="82152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0" y="919080"/>
            <a:ext cx="9144000" cy="593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468360" y="260280"/>
            <a:ext cx="820404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Tekaisu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484280"/>
            <a:ext cx="82152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STM:n rahoittama, THL:n koordinoima projekti 2012-201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Vaikutusarviointien oltava tehokkaita tekaisuja eikä vuosikausien hankkeita.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arkoituksena jalkauttaa kuntiin uusia käytäntöjä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52480" indent="-4572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Avoimesta arvioinnis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2480" indent="-4572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Avoimesta päätöksentekokäytännöst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1"/>
          <p:cNvSpPr/>
          <p:nvPr/>
        </p:nvSpPr>
        <p:spPr>
          <a:xfrm>
            <a:off x="468360" y="260280"/>
            <a:ext cx="820404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Avoin päätöksentekokäytäntö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457200" y="1484280"/>
            <a:ext cx="82152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0680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495360"/>
                <a:tab algn="l" pos="952560"/>
                <a:tab algn="l" pos="1409760"/>
                <a:tab algn="l" pos="1866960"/>
                <a:tab algn="l" pos="2324160"/>
                <a:tab algn="l" pos="2781360"/>
                <a:tab algn="l" pos="3238560"/>
                <a:tab algn="l" pos="3695760"/>
                <a:tab algn="l" pos="4152960"/>
                <a:tab algn="l" pos="4610160"/>
                <a:tab algn="l" pos="5067360"/>
                <a:tab algn="l" pos="5524560"/>
                <a:tab algn="l" pos="5981760"/>
                <a:tab algn="l" pos="6438960"/>
                <a:tab algn="l" pos="6896160"/>
                <a:tab algn="l" pos="7353360"/>
                <a:tab algn="l" pos="7810560"/>
                <a:tab algn="l" pos="8267760"/>
                <a:tab algn="l" pos="8724960"/>
                <a:tab algn="l" pos="9182160"/>
                <a:tab algn="l" pos="9639360"/>
                <a:tab algn="l" pos="10058400"/>
                <a:tab algn="l" pos="105156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Neljä perusosaa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495360"/>
                <a:tab algn="l" pos="952560"/>
                <a:tab algn="l" pos="1409760"/>
                <a:tab algn="l" pos="1866960"/>
                <a:tab algn="l" pos="2324160"/>
                <a:tab algn="l" pos="2781360"/>
                <a:tab algn="l" pos="3238560"/>
                <a:tab algn="l" pos="3695760"/>
                <a:tab algn="l" pos="4152960"/>
                <a:tab algn="l" pos="4610160"/>
                <a:tab algn="l" pos="5067360"/>
                <a:tab algn="l" pos="5524560"/>
                <a:tab algn="l" pos="5981760"/>
                <a:tab algn="l" pos="6438960"/>
                <a:tab algn="l" pos="6896160"/>
                <a:tab algn="l" pos="7353360"/>
                <a:tab algn="l" pos="7810560"/>
                <a:tab algn="l" pos="8267760"/>
                <a:tab algn="l" pos="8724960"/>
                <a:tab algn="l" pos="9182160"/>
                <a:tab algn="l" pos="9639360"/>
                <a:tab algn="l" pos="10058400"/>
                <a:tab algn="l" pos="105156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Tahdonilmaus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: päättäjän tavoitteet tiedossa ja toiminnan pohja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495360"/>
                <a:tab algn="l" pos="952560"/>
                <a:tab algn="l" pos="1409760"/>
                <a:tab algn="l" pos="1866960"/>
                <a:tab algn="l" pos="2324160"/>
                <a:tab algn="l" pos="2781360"/>
                <a:tab algn="l" pos="3238560"/>
                <a:tab algn="l" pos="3695760"/>
                <a:tab algn="l" pos="4152960"/>
                <a:tab algn="l" pos="4610160"/>
                <a:tab algn="l" pos="5067360"/>
                <a:tab algn="l" pos="5524560"/>
                <a:tab algn="l" pos="5981760"/>
                <a:tab algn="l" pos="6438960"/>
                <a:tab algn="l" pos="6896160"/>
                <a:tab algn="l" pos="7353360"/>
                <a:tab algn="l" pos="7810560"/>
                <a:tab algn="l" pos="8267760"/>
                <a:tab algn="l" pos="8724960"/>
                <a:tab algn="l" pos="9182160"/>
                <a:tab algn="l" pos="9639360"/>
                <a:tab algn="l" pos="10058400"/>
                <a:tab algn="l" pos="105156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Toteutus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: tiedon keruu ja jäsentäminen päätöksen tueks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495360"/>
                <a:tab algn="l" pos="952560"/>
                <a:tab algn="l" pos="1409760"/>
                <a:tab algn="l" pos="1866960"/>
                <a:tab algn="l" pos="2324160"/>
                <a:tab algn="l" pos="2781360"/>
                <a:tab algn="l" pos="3238560"/>
                <a:tab algn="l" pos="3695760"/>
                <a:tab algn="l" pos="4152960"/>
                <a:tab algn="l" pos="4610160"/>
                <a:tab algn="l" pos="5067360"/>
                <a:tab algn="l" pos="5524560"/>
                <a:tab algn="l" pos="5981760"/>
                <a:tab algn="l" pos="6438960"/>
                <a:tab algn="l" pos="6896160"/>
                <a:tab algn="l" pos="7353360"/>
                <a:tab algn="l" pos="7810560"/>
                <a:tab algn="l" pos="8267760"/>
                <a:tab algn="l" pos="8724960"/>
                <a:tab algn="l" pos="9182160"/>
                <a:tab algn="l" pos="9639360"/>
                <a:tab algn="l" pos="10058400"/>
                <a:tab algn="l" pos="105156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Seuranta ja ohjaus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: jatkuva työn peilaaminen ja parantaminen määriteltyjen tavoitteiden suhte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495360"/>
                <a:tab algn="l" pos="952560"/>
                <a:tab algn="l" pos="1409760"/>
                <a:tab algn="l" pos="1866960"/>
                <a:tab algn="l" pos="2324160"/>
                <a:tab algn="l" pos="2781360"/>
                <a:tab algn="l" pos="3238560"/>
                <a:tab algn="l" pos="3695760"/>
                <a:tab algn="l" pos="4152960"/>
                <a:tab algn="l" pos="4610160"/>
                <a:tab algn="l" pos="5067360"/>
                <a:tab algn="l" pos="5524560"/>
                <a:tab algn="l" pos="5981760"/>
                <a:tab algn="l" pos="6438960"/>
                <a:tab algn="l" pos="6896160"/>
                <a:tab algn="l" pos="7353360"/>
                <a:tab algn="l" pos="7810560"/>
                <a:tab algn="l" pos="8267760"/>
                <a:tab algn="l" pos="8724960"/>
                <a:tab algn="l" pos="9182160"/>
                <a:tab algn="l" pos="9639360"/>
                <a:tab algn="l" pos="10058400"/>
                <a:tab algn="l" pos="105156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Yhteenvetämisen taito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: tietotaitoa siitä, miten tietoa ja arvoja jäsennetään johdonmukaiseksi kokonaisuudeks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"/>
          <p:cNvSpPr/>
          <p:nvPr/>
        </p:nvSpPr>
        <p:spPr>
          <a:xfrm>
            <a:off x="468360" y="260280"/>
            <a:ext cx="820404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Tekaisu-menetelmän perustee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457200" y="1484280"/>
            <a:ext cx="82152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2270160" y="0"/>
            <a:ext cx="50562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"/>
          <p:cNvSpPr/>
          <p:nvPr/>
        </p:nvSpPr>
        <p:spPr>
          <a:xfrm>
            <a:off x="468360" y="260280"/>
            <a:ext cx="820404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Avoin päätöksentekokäytäntö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2"/>
          <p:cNvSpPr/>
          <p:nvPr/>
        </p:nvSpPr>
        <p:spPr>
          <a:xfrm>
            <a:off x="457200" y="1484280"/>
            <a:ext cx="82152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ehitetty yhdessä Innokylän kanss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äydentää Innokylän lähestymistapa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52480" indent="-4572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Laajentaa ajattelua sosiaali- ja terveydenhuollon ulkopuolel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2480" indent="-4572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Korostaa vaikutusarviointeja päätösvalmistelus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Sisältää käytäntöjä, ohjeistusta ja kriteereitä vaikutusarviointien evaluointii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Jatkuvan seurannan ja ohjauksen peria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1"/>
          <p:cNvSpPr/>
          <p:nvPr/>
        </p:nvSpPr>
        <p:spPr>
          <a:xfrm>
            <a:off x="468360" y="260280"/>
            <a:ext cx="820404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Avoin päätöksentekokäytäntö Kasteess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2"/>
          <p:cNvSpPr/>
          <p:nvPr/>
        </p:nvSpPr>
        <p:spPr>
          <a:xfrm>
            <a:off x="457200" y="1484280"/>
            <a:ext cx="82152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avoitteena oli rakentaa Kaste-hakemus 2013 soveltamaan ja testaamaan avointa päätöksentekokäytäntöä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52480" indent="-4572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Vaati liikaa sitoutumista ja resurssointia kunnil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Nyt kevyempi kunta- ja hankeyhteistyö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avoitteena konkreettiset hankkeet, joiss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52480" indent="-4572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päätöksenteon tukemisen element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2480" indent="-4572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hankkeen vaikuttavuuden evaluointi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2480" indent="-4572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ympäristöterveyden näkökul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468360" y="260280"/>
            <a:ext cx="820404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Loppu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484280"/>
            <a:ext cx="82152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19936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Avoin päätöksentekokäytäntö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1280880"/>
            <a:ext cx="821844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65000"/>
              </a:lnSpc>
              <a:spcBef>
                <a:spcPts val="11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enetelmä tiedon parempaan hyödyntämiseen yhteiskunnallisessa päätöksenteos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11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arkastelee erityisesti tiedontuotantoa päätösten valmisteluvaihees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11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erustuu kuuteen pääperiaatteeseen, jotka ohjaavat sisällöntuotanto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11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yön käytännön tekeminen jakautuu neljään osaan, jotka ovat ajallisesti päällekkäisiä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11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yrkii vastaamaan tavoitteisiin, jotka on asetettu hallitusohjelmassa (ympäristön terveysvaikutukset kaikkeen päätöksentekoon), tutkimuslaitosuudistuksessa (strategisen tutkimuksen kehittäminen) ja avoimen hallinnon hankkees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11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Rakennettu yhteensopivaksi kokonaisarkkitehtuurin kans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30B12C-481A-4090-9307-531028F78A55}" type="slidenum">
              <a:rPr b="0" lang="fi-FI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"/>
          <p:cNvSpPr/>
          <p:nvPr/>
        </p:nvSpPr>
        <p:spPr>
          <a:xfrm>
            <a:off x="468360" y="4437000"/>
            <a:ext cx="82072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veltaminen hankearviointi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468360" y="5589720"/>
            <a:ext cx="8207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ikko Pohjola, THL / Nordem O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1"/>
          <p:cNvSpPr/>
          <p:nvPr/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Mikko Pohjol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2"/>
          <p:cNvSpPr/>
          <p:nvPr/>
        </p:nvSpPr>
        <p:spPr>
          <a:xfrm>
            <a:off x="45720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5960" indent="-34596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T (Ympäristöterveys), Itä-Suomen yliopisto, 2013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6560" indent="-2793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Assessments are to change the world – Prerequisites for effective environmental health assessment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I (Tuotantotalous), Oulun yliopisto, 2006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6560" indent="-2793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Improvement of external knowledge transfer of a research company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Yrittäjä / konsultti, Nordem Oy, 2012 →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utkija, THL Ympäristöterveyden osasto, 2006-201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6560" indent="-2793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Avoin arviointi, Opasnet (www.opasnet.or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ri työtehtäviä teollisuudessa 1999 – 200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Yrittäjä / konsultti, Nordem Oy, 1999 – 200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1"/>
          <p:cNvSpPr/>
          <p:nvPr/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Arvioinnin monet ulottuvuude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45720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5960" indent="-34596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nnakkoarviointi, toiminnan ohjaus, jälkiarviointi (evaluointi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Pelkkä jälkiarviointi on vain myöhässä aloitettua (ja siksi puutteellista) arviointia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Kokonaisvaltainen arviointinäkökulm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Ajallinen jatkumo: ennen, aikana, jälke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Ei vain prosessia (hanketta), vaan etenkin vaikutuksia ja niiden syitä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1"/>
          <p:cNvSpPr/>
          <p:nvPr/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“</a:t>
            </a: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Avoin kehityshanke”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2"/>
          <p:cNvSpPr/>
          <p:nvPr/>
        </p:nvSpPr>
        <p:spPr>
          <a:xfrm>
            <a:off x="45720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5960" indent="-34596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Tahdonilmaisu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– julkiset tavoitteet ja päämäärä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Toteutu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– toiminnan ja sen suunnittelun ja valmistelun periaattee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Seuranta ja ohjau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– kokonaisvaltainen jatkuva arviointi osana hankkeen toteutusta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Avoimesta päätöksentekokäytännöstä täydentäviä menetelmiä hankearvioinnin tueksi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→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hankesuunnitelma ja sen toimeenpan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Avoin päätöksentekokäytäntö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55" name="Oval 2"/>
          <p:cNvSpPr/>
          <p:nvPr/>
        </p:nvSpPr>
        <p:spPr>
          <a:xfrm>
            <a:off x="2843280" y="1917720"/>
            <a:ext cx="2233440" cy="2303280"/>
          </a:xfrm>
          <a:prstGeom prst="ellipse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Päätöksentek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Oval 3"/>
          <p:cNvSpPr/>
          <p:nvPr/>
        </p:nvSpPr>
        <p:spPr>
          <a:xfrm>
            <a:off x="826920" y="2565360"/>
            <a:ext cx="2305080" cy="1079640"/>
          </a:xfrm>
          <a:prstGeom prst="ellipse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Valmistel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6372360" y="2637000"/>
            <a:ext cx="1728720" cy="865080"/>
          </a:xfrm>
          <a:prstGeom prst="octagon">
            <a:avLst>
              <a:gd name="adj" fmla="val 23148"/>
            </a:avLst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Vaikutuks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AutoShape 5"/>
          <p:cNvSpPr/>
          <p:nvPr/>
        </p:nvSpPr>
        <p:spPr>
          <a:xfrm>
            <a:off x="5076720" y="2637000"/>
            <a:ext cx="1295640" cy="792000"/>
          </a:xfrm>
          <a:prstGeom prst="rightArrow">
            <a:avLst>
              <a:gd name="adj1" fmla="val 50000"/>
              <a:gd name="adj2" fmla="val 40898"/>
            </a:avLst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Toteut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Oval 6"/>
          <p:cNvSpPr/>
          <p:nvPr/>
        </p:nvSpPr>
        <p:spPr>
          <a:xfrm>
            <a:off x="826920" y="1341360"/>
            <a:ext cx="5545440" cy="3382920"/>
          </a:xfrm>
          <a:prstGeom prst="ellipse">
            <a:avLst/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2340000" y="148428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Tietokäytännö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2771640" y="5300640"/>
            <a:ext cx="2664000" cy="79236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Seuranta 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ohja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9"/>
          <p:cNvSpPr/>
          <p:nvPr/>
        </p:nvSpPr>
        <p:spPr>
          <a:xfrm flipH="1" flipV="1">
            <a:off x="2041200" y="3634920"/>
            <a:ext cx="1963800" cy="167508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10"/>
          <p:cNvSpPr/>
          <p:nvPr/>
        </p:nvSpPr>
        <p:spPr>
          <a:xfrm flipV="1">
            <a:off x="3995640" y="4211640"/>
            <a:ext cx="1800" cy="109872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11"/>
          <p:cNvSpPr/>
          <p:nvPr/>
        </p:nvSpPr>
        <p:spPr>
          <a:xfrm flipV="1">
            <a:off x="3995640" y="3490920"/>
            <a:ext cx="3240360" cy="181944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12"/>
          <p:cNvSpPr/>
          <p:nvPr/>
        </p:nvSpPr>
        <p:spPr>
          <a:xfrm flipV="1">
            <a:off x="3995640" y="3203640"/>
            <a:ext cx="1656000" cy="210672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13"/>
          <p:cNvSpPr/>
          <p:nvPr/>
        </p:nvSpPr>
        <p:spPr>
          <a:xfrm flipH="1" flipV="1">
            <a:off x="2906640" y="4642920"/>
            <a:ext cx="1098720" cy="66708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Oval 14"/>
          <p:cNvSpPr/>
          <p:nvPr/>
        </p:nvSpPr>
        <p:spPr>
          <a:xfrm>
            <a:off x="4284720" y="2268360"/>
            <a:ext cx="2592360" cy="1440000"/>
          </a:xfrm>
          <a:prstGeom prst="ellipse">
            <a:avLst/>
          </a:prstGeom>
          <a:noFill/>
          <a:ln w="36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1"/>
          <p:cNvSpPr/>
          <p:nvPr/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Seurannan ja ohjauksen menetelmä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45720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5960" indent="-34596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Hyvän hankkeen ominaisuudet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(päämenetelmä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Tiedon/suunnitelman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sisällön laatu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Tarkkuus, harhattomuus, sisäinen yhdenmukaisuu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Sovellettavuu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Merkityksellisyys, saatavuus, käytettävyys, hyväksyttävyy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Tehokkuu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Sisäinen tehokkuus, ulkoinen tehokkuu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Esimerkki: Uusien biodieselin raaka-aineiden vaikutusarviointi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45720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5960" indent="-34596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isällön laatu (varsin) hyvä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ehokkuus hyvä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Kelpo tulokset pienin resurssei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Tulokset helposti hyödynnettävissä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ovellettavuudessa kuitenkin puutteit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Tilaaja/käyttäjä (Neste Oil) ei julkistanut tarpeitaan selvästi eikä osallistunut työhön aktiivisesti (-&gt; heikko merkityksellisyys ja käytettävyy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"/>
          <p:cNvSpPr/>
          <p:nvPr/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Seurannan ja ohjauksen menetelmä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45720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5960" indent="-34596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Kattavuus 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(apumenetelmä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Vaikutukse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huomioidut, oleelliset, tärkeimmät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Syyt (vaikuttime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huomioidut, oleelliset, tärkeimmät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Asianosaise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halukkaat, mahdolliset, vastuulliset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Toimij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osalliset, hyötyjät, tarvitsijat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1"/>
          <p:cNvSpPr/>
          <p:nvPr/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Esimerkki: erilaiset vaikutusarviointimenetelmä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2"/>
          <p:cNvSpPr/>
          <p:nvPr/>
        </p:nvSpPr>
        <p:spPr>
          <a:xfrm>
            <a:off x="45720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5960" indent="-34596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Useimmat vakiintuneet vaikutusarvioinnin menetelmät rajattuja joko tarkasteltavien vaikutusten ja niiden syiden sekä huomioon ja mukaan otettavien toimijoiden suhtee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YVA, TVA, RA,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nnalta asetetut rajoitteet harvoin yhdenmukaisia tiedon tarpeen kanssa ja siten usein heikentävät tuotetun tiedon käyttökelpoisuut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1"/>
          <p:cNvSpPr/>
          <p:nvPr/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Seurannan ja ohjauksen menetelmä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45720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5960" indent="-34596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Avoimuus 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(apumenetelmä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Osallistumisen avoimuus - 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ketkä saavat osallistua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Tiedon avoimuus - 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missä määrin tietoa on saatavilla?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Osallistumisen ajoitus - 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milloin voi osallistua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Osallistumisen kattavuus - 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mihin toimintoihin voi osallistua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Osallistumisen vaikutus - 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missä määrin osallistujat voivat vaikuttaa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19936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Periaattee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33080" y="1268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65000"/>
              </a:lnSpc>
              <a:spcBef>
                <a:spcPts val="11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Tavoitteellisuus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: päätöksentekijän asettamat tavoitteet ja toimintavaihtoehdot ja niiden tietotarpeet ohjaavat tietotyötä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11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Kohteellisuus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: Tieto kerätään ja jaetaan yhdessä paikassa, jossa myös työskennellään ja keskustellaan sisällöstä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11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Syysuhteiden kuvaus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: Tarkastelun kohteena ovat ne syysuhteet, joiden kautta päätökset muuttavat tavoiteltuja asioi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11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Kritiikki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: Kaikkea saa kritisoida. Kritiikin sisällyttämisestä on omat ohjeen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11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Avoimuus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: Lähtökohtaisesti kaikki saavat osallistu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11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Uusiokäyttö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: Kaikki työ tehdään niin, että tieto on mahdollisimman helposti käytettävissä uusissa tilanteis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A30DC7-7F06-4622-A76B-9E45F0F248C3}" type="slidenum">
              <a:rPr b="0" lang="fi-FI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1"/>
          <p:cNvSpPr/>
          <p:nvPr/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Esimerkki: Puijon metsienhoitosuunnitelm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2"/>
          <p:cNvSpPr/>
          <p:nvPr/>
        </p:nvSpPr>
        <p:spPr>
          <a:xfrm>
            <a:off x="45720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5960" indent="-34596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lusta alkaen avoin prosessi, useita sidosryhmätilaisuuksia ja työpajoj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Kuitenkin lopulta monet tyytymättömiä lopputulokseen, miksi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Vaikka kuultiin, erilaisia näkemyksiä ei osattu sisällyttää loppuraporttiin (→ heikko osallistumisen vaikuttavuus ja kattavuu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Seurauksena paljon kiistelyä kaupunginvaltuuston päätöksiin ja suunnitelman toimeenpanoon liitty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1"/>
          <p:cNvSpPr/>
          <p:nvPr/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Seurannan ja ohjauksen menetelmä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2"/>
          <p:cNvSpPr/>
          <p:nvPr/>
        </p:nvSpPr>
        <p:spPr>
          <a:xfrm>
            <a:off x="45720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5960" indent="-34596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Hyväksyttävyy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Onko huomioitu olennaiset tiedot asiasta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Onko huomioitu olennaiset arvoarvostelmat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Onko tavoitteet kuvattu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Onko päättely tavoitteista suunnitelmaan/toimeenpanoon kuvattu?</a:t>
            </a:r>
            <a:br>
              <a:rPr sz="2600"/>
            </a:b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Voivatko kaikki asianosaiset/toimijat vastata kaikkiin edellisiin kysymyksiin kyllä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1"/>
          <p:cNvSpPr/>
          <p:nvPr/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Esimerkki: Puijon metsienhoitosuunnitelm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2"/>
          <p:cNvSpPr/>
          <p:nvPr/>
        </p:nvSpPr>
        <p:spPr>
          <a:xfrm>
            <a:off x="45720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5960" indent="-34596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aajasta osallistumisesta huolimatta etenkin ympäristöjärjestöt kritisoivat luonnonsuojelullisten näkökulmien vähäisestä painoarvost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Vastaavasti prosessista vastaavat moittivat kriittisten lausuntojen antajia irtiotosta, vaikka olivat saaneet olleet mukana osallistumass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Selvästikään kaikkea tietoa ja eri näkökulmia ei oltu huomioitu lopputuloksessa riittäväst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Myöskään eri toimijoiden tavoitteet ja niiden yhteydet lopputulokseen eivät olleet läpinäkyvästi tiedossa ja esillä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1"/>
          <p:cNvSpPr/>
          <p:nvPr/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Keskustelu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45720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5960" indent="-34596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öytyisikö esimerkkejä teidän hankkeistanne tai muusta toimintaympäristöstä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Hankesuunnitelman/-toteutuks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Sisältö, sovellettavuus, tehokkuus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Kattavuus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Avoimuus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Hyväksyttävyys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1"/>
          <p:cNvSpPr/>
          <p:nvPr/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2"/>
          <p:cNvSpPr/>
          <p:nvPr/>
        </p:nvSpPr>
        <p:spPr>
          <a:xfrm>
            <a:off x="45720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468360" y="260280"/>
            <a:ext cx="820260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itos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19936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Työn tekemiseen osa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484280"/>
            <a:ext cx="821052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75000"/>
              </a:lnSpc>
              <a:spcBef>
                <a:spcPts val="11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i-FI" sz="2600" spc="-1" strike="noStrike">
                <a:solidFill>
                  <a:srgbClr val="000000"/>
                </a:solidFill>
                <a:latin typeface="Arial"/>
              </a:rPr>
              <a:t>Tahdonilmaisu</a:t>
            </a: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: Päättäjä jäsentää ja lausuu julki päätökselle asetettavat tavoitteet ja reunaehdot. Tämä työ painottuu alkuvaiheesee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5000"/>
              </a:lnSpc>
              <a:spcBef>
                <a:spcPts val="11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i-FI" sz="2600" spc="-1" strike="noStrike">
                <a:solidFill>
                  <a:srgbClr val="000000"/>
                </a:solidFill>
                <a:latin typeface="Arial"/>
              </a:rPr>
              <a:t>Toteutus</a:t>
            </a: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: Päätöstuen tavoitteena on tuottaa vaikutusarviointi, joka ennakoi eri päätösvaihtoehtojen vaikutuksi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5000"/>
              </a:lnSpc>
              <a:spcBef>
                <a:spcPts val="11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i-FI" sz="2600" spc="-1" strike="noStrike">
                <a:solidFill>
                  <a:srgbClr val="000000"/>
                </a:solidFill>
                <a:latin typeface="Arial"/>
              </a:rPr>
              <a:t>Seuranta ja ohjaus</a:t>
            </a: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: Työtä seurataan ja ohjataan jatkuvasti peilaamalla sitä asetettuihin tavoitteisiin ja tulossa oleviin päätöksenteon vaiheisii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5000"/>
              </a:lnSpc>
              <a:spcBef>
                <a:spcPts val="11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i-FI" sz="2600" spc="-1" strike="noStrike">
                <a:solidFill>
                  <a:srgbClr val="000000"/>
                </a:solidFill>
                <a:latin typeface="Arial"/>
              </a:rPr>
              <a:t>Yhteenvetämisen taito</a:t>
            </a: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: Työn tekeminen vaatii uusia taitoja, jotka eivät sisälly päättäjän, asiantuntijan eikä lobbarinkaan ammattitaitoon. Tämä uusikin työ on organisoitav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988502-477C-47AF-81FC-8480C2D3B4C9}" type="slidenum">
              <a:rPr b="0" lang="fi-FI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14240" y="304560"/>
            <a:ext cx="61722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Avoin päätöksen-</a:t>
            </a:r>
            <a:br>
              <a:rPr sz="3400"/>
            </a:b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tekokäytäntö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6840" y="1484280"/>
            <a:ext cx="8210520" cy="4384800"/>
          </a:xfrm>
          <a:prstGeom prst="rect">
            <a:avLst/>
          </a:prstGeom>
          <a:ln w="0">
            <a:noFill/>
          </a:ln>
        </p:spPr>
      </p:pic>
      <p:sp>
        <p:nvSpPr>
          <p:cNvPr id="107" name="Slide Number Placeholder 4"/>
          <p:cNvSpPr/>
          <p:nvPr/>
        </p:nvSpPr>
        <p:spPr>
          <a:xfrm>
            <a:off x="8575560" y="6586560"/>
            <a:ext cx="53352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C26FC8-7CEF-4A2B-B4C2-AC8B590B9C7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2"/>
          <p:cNvSpPr/>
          <p:nvPr/>
        </p:nvSpPr>
        <p:spPr>
          <a:xfrm>
            <a:off x="155520" y="-1859040"/>
            <a:ext cx="2857680" cy="38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307800" y="-1706400"/>
            <a:ext cx="2857680" cy="38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2"/>
          <a:stretch/>
        </p:blipFill>
        <p:spPr>
          <a:xfrm>
            <a:off x="2286000" y="-3240"/>
            <a:ext cx="507672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468360" y="260280"/>
            <a:ext cx="820404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Tausta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457200" y="1484280"/>
            <a:ext cx="82152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Ympäristö vaikuttaa terveyteen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52480" indent="-4572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Ilmansaasteet, pienhiukka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2480" indent="-4572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Kosteusvauriot, hometa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2480" indent="-4572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Melu ja hel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2480" indent="-4572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Pysyvät orgaaniset ympäristömyrkyt ja metall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19936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Kytkennät kokonaisarkkitehtuuriin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6840" y="1268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oiminta: Ohjeita tietotyön käytännön tekemiseen. Sovellettavissa muuhunkin tietotyöhön kuin välittömään päätöstukeen, esim. tutkimus- ja asiantuntijalaitosten toimintaan yleisest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ieto: Tiedon sovellettavuus ja jäsentäminen on avoimen päätöksentekokäytännön perusta ja lähtökoh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ietojärjestelmät: Kuvatun kaltaisen työn tekemiseen on rakennettu yleiskäyttöiset tietojärjestelmä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pasnet: arviointitiedon kerääminen ja jäsentämi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Innokylä: hyvien käytäntöjen kehittäminen, arviointi ja juurruttamin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ietoteknologiat: Avoimen koodin järjestelmät ovat jo käytössä ja valmiina laajempaan käyttöö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32FE9D-AEFF-44A2-B45C-DB6A2C895668}" type="slidenum">
              <a:rPr b="0" lang="fi-FI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19936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Ympäristöterveydenhuollon kokonaisarkkitehtuuri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484280"/>
            <a:ext cx="821052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okonaisarkkitehtuurissa on kaksi pääosa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YHTI: ympäristöterveydenhuollon valtakunnallinen tietojärjestelmä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iranomaiskäyttöö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alvonta- ym. tietojen kerääminen kunni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astuuhenkilö: Jyrki Huikari, S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Avoin päätöksentekokäytäntö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äätöksenteon tietotuki kunnissa ja yhteiskunnassa yleens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astuuhenkilö: Jouni Tuomisto, TH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C24123-731A-4537-8EE8-858FF627799D}" type="slidenum">
              <a:rPr b="0" lang="fi-FI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68360" y="260280"/>
            <a:ext cx="820404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Ympäristöterveys on osa (kunnallista) päätöksenteko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57200" y="1484280"/>
            <a:ext cx="82152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aavoitus ja sen vaikutukset mm. liikenteese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Ympäristön viihtyisyys ja sen vaikutus hyvinvointii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YVA, ympäristöluvitus (Talvivaara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Rakennusluv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Päätöksentekijöinä mm. kunnat, AVIt, ely-keskukse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7T13:09:53Z</dcterms:created>
  <dc:creator>ktluser</dc:creator>
  <dc:description/>
  <dc:language>en-US</dc:language>
  <cp:lastModifiedBy>Tuomisto Jouni</cp:lastModifiedBy>
  <dcterms:modified xsi:type="dcterms:W3CDTF">2013-11-07T12:54:38Z</dcterms:modified>
  <cp:revision>30</cp:revision>
  <dc:subject/>
  <dc:title>Tekaisu-hankkeen yleisesittely</dc:title>
</cp:coreProperties>
</file>